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rithmetic Progression" id="0">
      <p:sldLst>
        <p:sld r:id="rId16"/>
      </p:sldLst>
    </p:custShow>
    <p:custShow name="Filtered Evaluator" id="1">
      <p:sldLst>
        <p:sld r:id="rId17"/>
      </p:sldLst>
    </p:custShow>
    <p:custShow name="Sieve Eval" id="2">
      <p:sldLst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1C4-9ED8-4877-9F6E-0A4981A8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49B-DBEB-4ACC-8256-89C320F9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814-2493-4D0A-80AC-7396A036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AED-F476-40B6-9302-A1F7209E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2F13-BD42-45AD-ADF0-1A7916F3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B467-F592-478D-A793-776A5AC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EEA8-22DD-4407-914F-318E8E6E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F6E8-C1BE-4583-8A4D-D19C8303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F95A-BB88-496B-BBCB-239E9419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3390-E6E3-4B3C-B5AE-81453AB3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0AC7-4E82-4A7F-8BB3-0F7924A3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30B-6E2C-44E1-B302-C8248E4B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AA1-948E-4BB6-803F-CB22D9BF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C826-7A4B-418E-A653-778B4827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DBF6-B6E1-4D7E-A010-352F37E4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5553-1415-4923-B6C6-E39552B4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5654-7A20-4CCE-8506-8E628683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C0A-EC7C-415F-83AC-B401B9FA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DC8-9EE1-4E41-9447-1C92512A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9B7-7A5A-4823-ABB2-15CA0338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78E-723D-4F51-8E0A-CF0745A8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B5C-B7B6-4C69-AE43-697E7CD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535-DC4F-438D-8AED-9EF060A7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4AB-613C-4417-82E9-1454A507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5D69-64CC-47EC-87CF-5D16F3B56F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BCB1-F8DE-4C78-99C1-7E48138C03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xnguyen@rice.edu" TargetMode="External"/><Relationship Id="rId2" Type="http://schemas.openxmlformats.org/officeDocument/2006/relationships/hyperlink" Target="mailto:swong@rice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..\animations\Decorator Projector.exe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Design Patterns for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8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ng “Zung” Nguyen, Stephen B. Wong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ton, TX US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dxnguyen@rice.ed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swong@rice.edu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1752480"/>
            <a:ext cx="1981440" cy="381240"/>
          </a:xfrm>
          <a:prstGeom prst="wedgeRoundRectCallout">
            <a:avLst>
              <a:gd name="adj1" fmla="val 53606"/>
              <a:gd name="adj2" fmla="val 141250"/>
              <a:gd name="adj3" fmla="val 16667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3200" y="2286000"/>
            <a:ext cx="9010800" cy="3457440"/>
            <a:chOff x="133200" y="2286000"/>
            <a:chExt cx="9010800" cy="3457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33200" y="2286000"/>
              <a:ext cx="90108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21524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334120" y="2590920"/>
              <a:ext cx="3247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3429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48320" y="5409000"/>
              <a:ext cx="4190760" cy="307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zyNonNullState (dat Object, lazy: ALazy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43800" y="3886200"/>
            <a:ext cx="1295280" cy="380880"/>
          </a:xfrm>
          <a:prstGeom prst="wedgeRoundRectCallout">
            <a:avLst>
              <a:gd name="adj1" fmla="val -97305"/>
              <a:gd name="adj2" fmla="val -63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867280"/>
            <a:ext cx="1523880" cy="381240"/>
          </a:xfrm>
          <a:prstGeom prst="wedgeRoundRectCallout">
            <a:avLst>
              <a:gd name="adj1" fmla="val 37500"/>
              <a:gd name="adj2" fmla="val -22916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co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438280"/>
            <a:ext cx="1371600" cy="304920"/>
          </a:xfrm>
          <a:prstGeom prst="wedgeRoundRectCallout">
            <a:avLst>
              <a:gd name="adj1" fmla="val 83101"/>
              <a:gd name="adj2" fmla="val 1697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sign Patterns for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Maxwell’s Equation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2057400"/>
                <a:ext cx="5384520" cy="400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676520" y="19051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2743200"/>
                <a:ext cx="223524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 rot="19956600">
            <a:off x="2742840" y="3429000"/>
            <a:ext cx="31622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thout Patter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7524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th Patter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 rot="21531000">
            <a:off x="4648320" y="4800240"/>
            <a:ext cx="3657600" cy="114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6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Impact"/>
              </a:rPr>
              <a:t>Let there be L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Patterns in CS1/CS2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0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Java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rithmetic Progress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60160"/>
            <a:ext cx="6363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Inc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val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current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 _inc;     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incre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IncEval(Integer val, int in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val;   _inc = inc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new Integer (_val.intValue () + _in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200400"/>
            <a:ext cx="3962520" cy="685800"/>
          </a:xfrm>
          <a:prstGeom prst="wedgeRectCallout">
            <a:avLst>
              <a:gd name="adj1" fmla="val -47513"/>
              <a:gd name="adj2" fmla="val 10370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 the curr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ake a new laz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410080"/>
            <a:ext cx="3352680" cy="762120"/>
          </a:xfrm>
          <a:prstGeom prst="wedgeRectCallout">
            <a:avLst>
              <a:gd name="adj1" fmla="val -73578"/>
              <a:gd name="adj2" fmla="val 2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valu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Filter Evaluator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6" name=""/>
          <p:cNvSpPr/>
          <p:nvPr/>
        </p:nvSpPr>
        <p:spPr>
          <a:xfrm>
            <a:off x="140400" y="1522080"/>
            <a:ext cx="8814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azyFilterEval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factor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factor to be filtered out.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RStruct _src;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source for filtering out multiples of _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azyFilterEval (Integer f, LRStruct s)  { _factor = f;  _src = s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return makeLRS 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rc = (LRStruct) _src.execute (SkipLeadMuls.Singleton, _facto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(Boolean)_src.execute (IsNull.Singleton, null)).booleanValue(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return new LRStruct ();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src.removeFirst ()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Integer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etFactor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return _fact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4952880" cy="1219320"/>
          </a:xfrm>
          <a:prstGeom prst="wedgeRectCallout">
            <a:avLst>
              <a:gd name="adj1" fmla="val -43398"/>
              <a:gd name="adj2" fmla="val 8854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and base case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need to create a filt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200400"/>
            <a:ext cx="4800600" cy="914400"/>
          </a:xfrm>
          <a:prstGeom prst="wedgeRectCallout">
            <a:avLst>
              <a:gd name="adj1" fmla="val -39486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ource ends up emp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empty l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809880"/>
            <a:ext cx="4648320" cy="1143000"/>
          </a:xfrm>
          <a:prstGeom prst="wedgeRectCallout">
            <a:avLst>
              <a:gd name="adj1" fmla="val -39685"/>
              <a:gd name="adj2" fmla="val 74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move first from the sourc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laz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at value as its fi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895480"/>
            <a:ext cx="4114800" cy="914400"/>
          </a:xfrm>
          <a:prstGeom prst="wedgeRectCallout">
            <a:avLst>
              <a:gd name="adj1" fmla="val -46064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all leading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actor in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What is a List of Primes Anyway?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dural:  Sieve of Erastoth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larativ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list with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eve List”:  A non-null list w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 “Sieve l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no multiples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first is the next grea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n-multi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 List of Primes 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zy Sieve implemen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rest is requested, a Sieve list must return a list guarante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to contain any multiples of fir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ieve evaluator needs to hold a lazy filter evalu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24640" y="1814040"/>
            <a:ext cx="717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 Sieve list whose first element equals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the list of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initial list = all integ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List’s R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7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prime = filtered list’s fir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ter evaluator = a new one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 = current pr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 = rest of old filter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urn a new lazy l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53341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1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</a:rPr>
              <a:t>Guarantee:  Rest has no multiples of fir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51800" y="167544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ieve evaluator’s nextLRS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1674720"/>
            <a:ext cx="8344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Sieve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Eval lazyFilter;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to filter out multiples of pr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SieveEval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two = new Integer (2);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rst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Struct src = (new LazyIncEval (two, 1)).makeLRS 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two, src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prime = (Integer)lazyFilter.nextLRS ().getFirst 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prime, lazyFilter.makeLRS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zyFilter.getFactor 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of Eratosthene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3505320" cy="381240"/>
          </a:xfrm>
          <a:prstGeom prst="wedgeRectCallout">
            <a:avLst>
              <a:gd name="adj1" fmla="val -38495"/>
              <a:gd name="adj2" fmla="val 17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of integers &gt;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886200"/>
            <a:ext cx="4876560" cy="457200"/>
          </a:xfrm>
          <a:prstGeom prst="wedgeRectCallout">
            <a:avLst>
              <a:gd name="adj1" fmla="val -44074"/>
              <a:gd name="adj2" fmla="val 219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next prim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09880"/>
            <a:ext cx="4724280" cy="762120"/>
          </a:xfrm>
          <a:prstGeom prst="wedgeRectCallout">
            <a:avLst>
              <a:gd name="adj1" fmla="val -44421"/>
              <a:gd name="adj2" fmla="val 80000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filter strategy to filter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 from the old filt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4800600" cy="457200"/>
          </a:xfrm>
          <a:prstGeom prst="wedgeRectCallout">
            <a:avLst>
              <a:gd name="adj1" fmla="val -46361"/>
              <a:gd name="adj2" fmla="val 9166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current prime a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362320"/>
            <a:ext cx="5029200" cy="533160"/>
          </a:xfrm>
          <a:prstGeom prst="wedgeRectCallout">
            <a:avLst>
              <a:gd name="adj1" fmla="val -45013"/>
              <a:gd name="adj2" fmla="val 176189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er out all multiples of 2 from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86200"/>
            <a:ext cx="2819520" cy="457200"/>
          </a:xfrm>
          <a:prstGeom prst="wedgeRectCallout">
            <a:avLst>
              <a:gd name="adj1" fmla="val -40203"/>
              <a:gd name="adj2" fmla="val 8611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next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9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knowledgme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7" name=""/>
          <p:cNvSpPr/>
          <p:nvPr/>
        </p:nvSpPr>
        <p:spPr>
          <a:xfrm>
            <a:off x="1985400" y="2819520"/>
            <a:ext cx="506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“Corky” Cartwright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352680"/>
            <a:ext cx="3200400" cy="1600200"/>
          </a:xfrm>
          <a:prstGeom prst="cloudCallout">
            <a:avLst>
              <a:gd name="adj1" fmla="val -67412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evalu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676520"/>
            <a:ext cx="41907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3" y="2968"/>
                </a:moveTo>
                <a:lnTo>
                  <a:pt x="-1677" y="2968"/>
                </a:lnTo>
                <a:lnTo>
                  <a:pt x="-1677" y="25310"/>
                </a:lnTo>
                <a:lnTo>
                  <a:pt x="3794" y="32023"/>
                </a:ln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e-like Jav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Sieve of Eratosth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id T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2" name=""/>
          <p:cNvSpPr/>
          <p:nvPr/>
        </p:nvSpPr>
        <p:spPr>
          <a:xfrm>
            <a:off x="264600" y="1679760"/>
            <a:ext cx="39344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5" y="5290"/>
                </a:moveTo>
                <a:lnTo>
                  <a:pt x="-463" y="5290"/>
                </a:lnTo>
                <a:lnTo>
                  <a:pt x="-463" y="23143"/>
                </a:lnTo>
                <a:lnTo>
                  <a:pt x="10840" y="41679"/>
                </a:lnTo>
              </a:path>
              <a:path w="21600" h="21600">
                <a:moveTo>
                  <a:pt x="-445" y="0"/>
                </a:moveTo>
                <a:lnTo>
                  <a:pt x="-445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existing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143000"/>
            <a:ext cx="3429000" cy="990720"/>
          </a:xfrm>
          <a:prstGeom prst="cloudCallout">
            <a:avLst>
              <a:gd name="adj1" fmla="val -71759"/>
              <a:gd name="adj2" fmla="val 4438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Laz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00100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4267080"/>
            <a:ext cx="2210040" cy="1447920"/>
          </a:xfrm>
          <a:prstGeom prst="cloudCallout">
            <a:avLst>
              <a:gd name="adj1" fmla="val 49638"/>
              <a:gd name="adj2" fmla="val -217212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641600"/>
            <a:ext cx="8458200" cy="4659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RS</a:t>
            </a: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 Framework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6456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4840" y="3745440"/>
            <a:ext cx="3568680" cy="3988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4972"/>
              <a:gd name="adj5" fmla="val -61856"/>
              <a:gd name="adj6" fmla="val -5282"/>
            </a:avLst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.execute (algo, input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0440" y="4624920"/>
            <a:ext cx="33552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3" y="5847"/>
                </a:moveTo>
                <a:lnTo>
                  <a:pt x="22163" y="5847"/>
                </a:lnTo>
                <a:lnTo>
                  <a:pt x="22163" y="34268"/>
                </a:lnTo>
                <a:lnTo>
                  <a:pt x="13200" y="65969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4419720" cy="457200"/>
          </a:xfrm>
          <a:prstGeom prst="wedgeRoundRectCallout">
            <a:avLst>
              <a:gd name="adj1" fmla="val 3199"/>
              <a:gd name="adj2" fmla="val 11388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ll requests to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800600" cy="145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10200" y="4050000"/>
            <a:ext cx="380952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1" y="5847"/>
                </a:moveTo>
                <a:lnTo>
                  <a:pt x="22641" y="5847"/>
                </a:lnTo>
                <a:lnTo>
                  <a:pt x="22641" y="-19083"/>
                </a:lnTo>
                <a:lnTo>
                  <a:pt x="15081" y="-47485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on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676520"/>
            <a:ext cx="3276720" cy="10666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962520"/>
            <a:ext cx="297180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tor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 computation of rest until it is neede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ept all requests involving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what is needed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what 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y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en evalu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tercept request at the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1520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180600">
            <a:off x="914040" y="4723920"/>
            <a:ext cx="1433520" cy="10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val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915400" cy="199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4162680" cy="192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71800" y="4964040"/>
            <a:ext cx="472428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48" y="2912"/>
                </a:moveTo>
                <a:lnTo>
                  <a:pt x="22725" y="2912"/>
                </a:lnTo>
                <a:lnTo>
                  <a:pt x="22725" y="-19011"/>
                </a:lnTo>
                <a:lnTo>
                  <a:pt x="21338" y="-23257"/>
                </a:lnTo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eval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nnState.getRest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600" y="6018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hange to existing code!  No recompilation 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6934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corator Patter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036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Evaluation Strateg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52280"/>
            <a:ext cx="38862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ecompilation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343400"/>
            <a:ext cx="4114800" cy="15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3809880"/>
            <a:ext cx="190476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3626280"/>
            <a:ext cx="3962160" cy="3231720"/>
            <a:chOff x="4876920" y="3626280"/>
            <a:chExt cx="3962160" cy="3231720"/>
          </a:xfrm>
        </p:grpSpPr>
        <p:grpSp>
          <p:nvGrpSpPr>
            <p:cNvPr id="124" name=""/>
            <p:cNvGrpSpPr/>
            <p:nvPr/>
          </p:nvGrpSpPr>
          <p:grpSpPr>
            <a:xfrm>
              <a:off x="7027560" y="4628160"/>
              <a:ext cx="1811520" cy="2229840"/>
              <a:chOff x="7027560" y="4628160"/>
              <a:chExt cx="1811520" cy="222984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7617240" y="4472640"/>
                <a:ext cx="304560" cy="17953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6800 h 1795320"/>
                  <a:gd name="textAreaBottom" fmla="*/ 1748520 h 17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7543800" y="5086440"/>
                <a:ext cx="1295280" cy="1771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SlantUp">
                  <a:avLst>
                    <a:gd name="adj" fmla="val 4623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strateg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patter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76920" y="3626280"/>
              <a:ext cx="2238120" cy="2298240"/>
              <a:chOff x="4876920" y="3626280"/>
              <a:chExt cx="2238120" cy="22982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4572000"/>
                <a:ext cx="223812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876920" y="3626280"/>
                <a:ext cx="1938240" cy="52020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ffff"/>
                    </a:solidFill>
                    <a:latin typeface="Arial"/>
                  </a:rPr>
                  <a:t>-lazyEval: ALazyEv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209680" y="5835960"/>
            <a:ext cx="47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840" y="5864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un animation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How do I make a Lazy Li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90108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2152440" cy="2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2590920"/>
            <a:ext cx="1981080" cy="380880"/>
          </a:xfrm>
          <a:prstGeom prst="wedgeRoundRectCallout">
            <a:avLst>
              <a:gd name="adj1" fmla="val 105527"/>
              <a:gd name="adj2" fmla="val 144583"/>
              <a:gd name="adj3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324792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124776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638680" y="5781600"/>
            <a:ext cx="32482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52280" y="1676520"/>
            <a:ext cx="7925040" cy="2124000"/>
            <a:chOff x="152280" y="1676520"/>
            <a:chExt cx="7925040" cy="2124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52280" y="1676520"/>
              <a:ext cx="447696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648320" y="3581280"/>
              <a:ext cx="342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648320" y="5713920"/>
            <a:ext cx="4190760" cy="307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zyNonNullState (dat Object, lazy: ALazy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57200"/>
            <a:ext cx="7620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Factor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162320" y="1143000"/>
            <a:ext cx="49816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960000" y="-1080"/>
            <a:ext cx="4969080" cy="1067760"/>
            <a:chOff x="3960000" y="-1080"/>
            <a:chExt cx="4969080" cy="1067760"/>
          </a:xfrm>
        </p:grpSpPr>
        <p:sp>
          <p:nvSpPr>
            <p:cNvPr id="148" name=""/>
            <p:cNvSpPr/>
            <p:nvPr/>
          </p:nvSpPr>
          <p:spPr>
            <a:xfrm rot="5400000">
              <a:off x="6197040" y="-609480"/>
              <a:ext cx="380880" cy="2971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00" y="-1080"/>
              <a:ext cx="4969080" cy="703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 the data, then ca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keLazyLR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o manufacture  a lazy L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080" y="3124080"/>
            <a:ext cx="8962920" cy="3591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variant vs. Varia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5029200"/>
            <a:ext cx="222876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n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1828800"/>
            <a:ext cx="16002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86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4:35:30Z</dcterms:created>
  <dc:creator>DXN</dc:creator>
  <dc:description/>
  <dc:language>en-US</dc:language>
  <cp:lastModifiedBy>Stephen Wong</cp:lastModifiedBy>
  <cp:lastPrinted>2000-01-11T06:33:51Z</cp:lastPrinted>
  <dcterms:modified xsi:type="dcterms:W3CDTF">2004-05-29T05:55:39Z</dcterms:modified>
  <cp:revision>173</cp:revision>
  <dc:subject/>
  <dc:title>Design Patterns for Lazy Evaluation</dc:title>
</cp:coreProperties>
</file>