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B38E-4CA3-43AB-AFDC-080D78E1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558-EE32-48DE-B673-FEDC0904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158-9CCB-4F8C-A102-C4165897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307A-930C-47DD-B573-E22A005D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8A8-44C2-48F1-9726-8E5BC058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29EE-C935-4C67-BE18-7594852A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019B-C830-4ED0-93A0-FC6C9AD1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5BE8-D014-4851-BF50-569E83EB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3739-BF3A-4AD5-8A97-612D1086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A04-1CC0-4CE2-A691-037268C4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15D4-8F31-4F48-801D-D67856AD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26D-5258-48EA-A1EF-5F4DC192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solidFill>
            <a:srgbClr val="19a1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705720" y="0"/>
            <a:ext cx="2438280" cy="838080"/>
            <a:chOff x="6705720" y="0"/>
            <a:chExt cx="2438280" cy="838080"/>
          </a:xfrm>
        </p:grpSpPr>
        <p:sp>
          <p:nvSpPr>
            <p:cNvPr id="3" name=""/>
            <p:cNvSpPr/>
            <p:nvPr/>
          </p:nvSpPr>
          <p:spPr>
            <a:xfrm>
              <a:off x="6705720" y="419040"/>
              <a:ext cx="376200" cy="419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705720" y="0"/>
              <a:ext cx="2438280" cy="62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892920" y="209520"/>
              <a:ext cx="2251080" cy="62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19a1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2057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248160" y="647676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040C-562E-4F69-AFD3-3C4E04DE9C46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7315200" y="152280"/>
            <a:ext cx="1523880" cy="49716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bert Fi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CT Australia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ck Butler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hester Inst of Tech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9, 2006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010280" y="5181480"/>
            <a:ext cx="1676520" cy="1201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5638680"/>
            <a:ext cx="1882800" cy="716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(1/8) Million-Module Mar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calable Locomotion for Large S-R Robots</a:t>
            </a:r>
            <a:endParaRPr b="0" lang="en-US" sz="32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56000" y="2495520"/>
            <a:ext cx="3936960" cy="3094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DP Implementation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Bounding box can overlap any obstacl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Even insufficient size is OK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oving bounding box produces locomotio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Parallel Actuation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43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ust prevent global disconnectio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heck for articulation point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Heuristic search ensures all neighbors remain connected after motion (find </a:t>
            </a:r>
            <a:r>
              <a:rPr b="0" i="1" lang="en-US" sz="1800" spc="-1" strike="noStrike">
                <a:solidFill>
                  <a:srgbClr val="000000"/>
                </a:solidFill>
                <a:latin typeface="Franklin Gothic Book"/>
              </a:rPr>
              <a:t>connecting cycle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terative deepening limits search tim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ust avoid collision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Lock modules in connecting cycl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est-and-set destination positio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Free locked modul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317484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70520" y="317484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7720" y="317484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84920" y="317484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42120" y="317484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99320" y="317484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56320" y="2857680"/>
            <a:ext cx="762120" cy="545760"/>
          </a:xfrm>
          <a:custGeom>
            <a:avLst/>
            <a:gdLst/>
            <a:ahLst/>
            <a:rect l="l" t="t" r="r" b="b"/>
            <a:pathLst>
              <a:path w="480" h="344">
                <a:moveTo>
                  <a:pt x="0" y="344"/>
                </a:moveTo>
                <a:cubicBezTo>
                  <a:pt x="32" y="228"/>
                  <a:pt x="64" y="112"/>
                  <a:pt x="144" y="56"/>
                </a:cubicBezTo>
                <a:cubicBezTo>
                  <a:pt x="224" y="0"/>
                  <a:pt x="352" y="4"/>
                  <a:pt x="48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848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3320" y="363204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70520" y="363204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27720" y="363204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84920" y="363204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42120" y="363204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99320" y="363204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97" idx="1"/>
            <a:endCxn id="102" idx="3"/>
          </p:cNvCxnSpPr>
          <p:nvPr/>
        </p:nvCxnSpPr>
        <p:spPr>
          <a:xfrm flipH="1" flipV="1" rot="10800000">
            <a:off x="5412960" y="3402360"/>
            <a:ext cx="2743920" cy="2520"/>
          </a:xfrm>
          <a:prstGeom prst="curvedConnector5">
            <a:avLst>
              <a:gd name="adj1" fmla="val -8332"/>
              <a:gd name="adj2" fmla="val 33600000"/>
              <a:gd name="adj3" fmla="val -8332"/>
            </a:avLst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Parallel Actuation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Modules search locally &amp; move in parall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8006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Efficiency Issues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echnique works best for blobby shap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odules multiply connected, many can move at once, bounding boxes for goal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But gracefully degrades as wel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ynamic program runs in O(d) tim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 = diameter, can be       up to 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Neighbor connectivity search also will find shortest paths but as long as required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2890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Philosophical Points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lgorithms (for the same task) have different requirements/capabiliti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Important to consider task requirement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hape fidelity, shape geometry, heterogeneity, speed of reconfiguratio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s well as (traditional) module issu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emory, relative speed of communication and actuation, etc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Example: Single Obstacle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71880" y="1976400"/>
            <a:ext cx="48006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Example: 1000 Modules with Obstacles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71880" y="1976400"/>
            <a:ext cx="48006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Scalability Challenges in S-R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Useful systems will probably need thousands of modul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ach module may need to be simpl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an’t use linear space per module or linear time per ac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Essentially precludes exact shapes?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Locomotion algos can use minimal space, but are restricted in operatio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2736720" cy="215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56000" y="4076640"/>
            <a:ext cx="2663640" cy="2092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867280" y="4076640"/>
            <a:ext cx="2880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One Million (Point) Modules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68320" y="1600200"/>
            <a:ext cx="5605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Proposed Approach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mplified shapes for planni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Parallel path planning via MDP-inspired dynamic programmi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afe parallel actuation via local connectivity check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fficiency depends on shap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his may be true for many technique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"/>
          <p:cNvSpPr/>
          <p:nvPr/>
        </p:nvSpPr>
        <p:spPr>
          <a:xfrm>
            <a:off x="4344840" y="5353200"/>
            <a:ext cx="520920" cy="520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4840" y="4938840"/>
            <a:ext cx="520920" cy="5191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4840" y="4522680"/>
            <a:ext cx="520920" cy="5209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940280"/>
            <a:ext cx="519120" cy="520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5456160"/>
            <a:ext cx="6337440" cy="677880"/>
          </a:xfrm>
          <a:custGeom>
            <a:avLst/>
            <a:gdLst/>
            <a:ahLst/>
            <a:rect l="l" t="t" r="r" b="b"/>
            <a:pathLst>
              <a:path w="2766" h="296">
                <a:moveTo>
                  <a:pt x="0" y="296"/>
                </a:moveTo>
                <a:cubicBezTo>
                  <a:pt x="192" y="171"/>
                  <a:pt x="385" y="46"/>
                  <a:pt x="544" y="23"/>
                </a:cubicBezTo>
                <a:cubicBezTo>
                  <a:pt x="703" y="0"/>
                  <a:pt x="763" y="137"/>
                  <a:pt x="952" y="160"/>
                </a:cubicBezTo>
                <a:cubicBezTo>
                  <a:pt x="1141" y="183"/>
                  <a:pt x="1482" y="183"/>
                  <a:pt x="1678" y="160"/>
                </a:cubicBezTo>
                <a:cubicBezTo>
                  <a:pt x="1874" y="137"/>
                  <a:pt x="1950" y="16"/>
                  <a:pt x="2131" y="23"/>
                </a:cubicBezTo>
                <a:cubicBezTo>
                  <a:pt x="2312" y="30"/>
                  <a:pt x="2539" y="117"/>
                  <a:pt x="2766" y="205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59200" y="5508720"/>
            <a:ext cx="520560" cy="520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76440" y="5508720"/>
            <a:ext cx="519120" cy="520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76440" y="5094360"/>
            <a:ext cx="519120" cy="5191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90800" y="5508720"/>
            <a:ext cx="519120" cy="520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08400" y="5508720"/>
            <a:ext cx="519120" cy="520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92600" y="5094360"/>
            <a:ext cx="520560" cy="5191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08400" y="5094360"/>
            <a:ext cx="519120" cy="5191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08400" y="4680000"/>
            <a:ext cx="519120" cy="5191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24560" y="5508720"/>
            <a:ext cx="520560" cy="520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41800" y="5508720"/>
            <a:ext cx="519120" cy="520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41800" y="5094360"/>
            <a:ext cx="519120" cy="5191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5600" y="4159080"/>
            <a:ext cx="2494080" cy="207828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63960" y="5925960"/>
            <a:ext cx="2598480" cy="243000"/>
          </a:xfrm>
          <a:custGeom>
            <a:avLst/>
            <a:gdLst/>
            <a:ahLst/>
            <a:rect l="l" t="t" r="r" b="b"/>
            <a:pathLst>
              <a:path w="1134" h="106">
                <a:moveTo>
                  <a:pt x="0" y="0"/>
                </a:moveTo>
                <a:cubicBezTo>
                  <a:pt x="98" y="38"/>
                  <a:pt x="197" y="76"/>
                  <a:pt x="363" y="91"/>
                </a:cubicBezTo>
                <a:cubicBezTo>
                  <a:pt x="529" y="106"/>
                  <a:pt x="870" y="106"/>
                  <a:pt x="998" y="91"/>
                </a:cubicBezTo>
                <a:cubicBezTo>
                  <a:pt x="1126" y="76"/>
                  <a:pt x="1130" y="38"/>
                  <a:pt x="113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81560" y="5405400"/>
            <a:ext cx="414000" cy="103320"/>
          </a:xfrm>
          <a:custGeom>
            <a:avLst/>
            <a:gdLst/>
            <a:ahLst/>
            <a:rect l="l" t="t" r="r" b="b"/>
            <a:pathLst>
              <a:path w="227" h="52">
                <a:moveTo>
                  <a:pt x="0" y="0"/>
                </a:moveTo>
                <a:cubicBezTo>
                  <a:pt x="49" y="19"/>
                  <a:pt x="98" y="38"/>
                  <a:pt x="136" y="45"/>
                </a:cubicBezTo>
                <a:cubicBezTo>
                  <a:pt x="174" y="52"/>
                  <a:pt x="200" y="48"/>
                  <a:pt x="227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24560" y="4886280"/>
            <a:ext cx="726840" cy="434880"/>
          </a:xfrm>
          <a:custGeom>
            <a:avLst/>
            <a:gdLst/>
            <a:ahLst/>
            <a:rect l="l" t="t" r="r" b="b"/>
            <a:pathLst>
              <a:path w="317" h="190">
                <a:moveTo>
                  <a:pt x="0" y="0"/>
                </a:moveTo>
                <a:cubicBezTo>
                  <a:pt x="30" y="87"/>
                  <a:pt x="60" y="174"/>
                  <a:pt x="90" y="182"/>
                </a:cubicBezTo>
                <a:cubicBezTo>
                  <a:pt x="120" y="190"/>
                  <a:pt x="143" y="69"/>
                  <a:pt x="181" y="46"/>
                </a:cubicBezTo>
                <a:cubicBezTo>
                  <a:pt x="219" y="23"/>
                  <a:pt x="268" y="34"/>
                  <a:pt x="317" y="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4520" y="5405400"/>
            <a:ext cx="520920" cy="434880"/>
          </a:xfrm>
          <a:custGeom>
            <a:avLst/>
            <a:gdLst/>
            <a:ahLst/>
            <a:rect l="l" t="t" r="r" b="b"/>
            <a:pathLst>
              <a:path w="227" h="190">
                <a:moveTo>
                  <a:pt x="182" y="0"/>
                </a:moveTo>
                <a:cubicBezTo>
                  <a:pt x="204" y="53"/>
                  <a:pt x="227" y="106"/>
                  <a:pt x="227" y="136"/>
                </a:cubicBezTo>
                <a:cubicBezTo>
                  <a:pt x="227" y="166"/>
                  <a:pt x="220" y="174"/>
                  <a:pt x="182" y="182"/>
                </a:cubicBezTo>
                <a:cubicBezTo>
                  <a:pt x="144" y="190"/>
                  <a:pt x="72" y="186"/>
                  <a:pt x="0" y="182"/>
                </a:cubicBezTo>
              </a:path>
            </a:pathLst>
          </a:custGeom>
          <a:noFill/>
          <a:ln cap="rnd" w="19080">
            <a:solidFill>
              <a:srgbClr val="ff0000"/>
            </a:solidFill>
            <a:custDash>
              <a:ds d="100000" sp="1000"/>
            </a:custDash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862680" cy="4905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Example: Large (22^3) Robot Among Obstacles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Sublinear Planning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ublinear in time and spac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Bounding box to describe goa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Could be arbitrarily more complex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ach module not in goal finds a path to closest goal loca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ormulated as MDP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Plans are continuously updated as each module move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Assuming SlidingCube abstraction, although not limited to thi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DP Formulation – GridWorld Example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705040" y="1844640"/>
            <a:ext cx="374652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DP Formulation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tates S: all module locations (current &amp; potential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ctions A: module motions (6 faces x 4 moves + null = 25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Reward r = -1 (not in goal), or -k*height (in goal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Policy is therefore a legal motion for each location such that each module finds a goal in minimum tim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No attempt to assign goals to modul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Not all goal locations reachable anywa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DP Implementation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ach module keeps track of adjacent locatio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ssume bounding box overlaps robo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Best policies are propagated from goa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Module motions trigger updat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9:51:21Z</dcterms:created>
  <dc:creator>Zack Butler</dc:creator>
  <dc:description/>
  <dc:language>en-US</dc:language>
  <cp:lastModifiedBy>NICTA</cp:lastModifiedBy>
  <dcterms:modified xsi:type="dcterms:W3CDTF">2006-08-19T20:26:28Z</dcterms:modified>
  <cp:revision>58</cp:revision>
  <dc:subject/>
  <dc:title>Internally-specified Heterogeneous  Self-reconfiguration</dc:title>
</cp:coreProperties>
</file>