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5f5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64471-1C0C-4206-A63A-C0342232D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8989-0B85-4A0D-8B7B-AA3A10CA5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FD8E-9C87-41B9-87DD-E56981C2E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F379-A26E-463D-817B-7CB73A402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14F3-055F-4902-BB14-B864B039C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3119-8196-4747-9E10-F353CB97B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D4D9-4B3C-4E7D-8BD5-846166A48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0483-7D12-4E9D-947D-D19A30F95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197B-F5D6-4391-AEDF-8080442CD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177D-443F-4CFB-91A5-8FBA0CBFB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8367-8B08-4017-8D3F-43B0A2C2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4149-7005-4871-B30A-258191FC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2766-DE60-4C28-B277-88DCB452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81680" y="6248160"/>
            <a:ext cx="19051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5f5f5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38280" y="6244920"/>
            <a:ext cx="4267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5f5f5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7200" y="624816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216DF-813D-4901-9BE4-1711ADCEF60D}" type="slidenum">
              <a:rPr b="0" lang="en-US" sz="1200" spc="-1" strike="noStrike">
                <a:solidFill>
                  <a:srgbClr val="5f5f5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5856120"/>
            <a:ext cx="1905120" cy="10018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533520" y="1219320"/>
            <a:ext cx="807696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1676520"/>
            <a:ext cx="7925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5f5f"/>
                </a:solidFill>
                <a:latin typeface="Arial"/>
              </a:rPr>
              <a:t>On Scalability Issues in Reinforcement Learning for Modular Robots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4267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a5200"/>
                </a:solidFill>
                <a:latin typeface="Arial"/>
              </a:rPr>
              <a:t>Paulina Varshavskaya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, Leslie Pack Kaelbling and Daniela Ru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5f5f"/>
                </a:solidFill>
                <a:latin typeface="Arial"/>
              </a:rPr>
              <a:t>Large modular sytem challenges 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54080" y="1697040"/>
            <a:ext cx="701028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partial observ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92240" y="2489040"/>
            <a:ext cx="70740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large observation-action sp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395440" y="3103560"/>
            <a:ext cx="576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bservations without obstacles             2,304 parame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bservations with obstacles                59,049 parame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805040" y="3873600"/>
            <a:ext cx="3581280" cy="946800"/>
            <a:chOff x="1805040" y="3873600"/>
            <a:chExt cx="3581280" cy="946800"/>
          </a:xfrm>
        </p:grpSpPr>
        <p:sp>
          <p:nvSpPr>
            <p:cNvPr id="157" name=""/>
            <p:cNvSpPr/>
            <p:nvPr/>
          </p:nvSpPr>
          <p:spPr>
            <a:xfrm>
              <a:off x="3254040" y="44830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8" name="" descr=""/>
            <p:cNvPicPr/>
            <p:nvPr/>
          </p:nvPicPr>
          <p:blipFill>
            <a:blip r:embed="rId1"/>
            <a:stretch/>
          </p:blipFill>
          <p:spPr>
            <a:xfrm>
              <a:off x="2166840" y="3873600"/>
              <a:ext cx="177156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805040" y="4559400"/>
              <a:ext cx="358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992240" y="5062680"/>
            <a:ext cx="771480" cy="717480"/>
            <a:chOff x="1992240" y="5062680"/>
            <a:chExt cx="771480" cy="717480"/>
          </a:xfrm>
        </p:grpSpPr>
        <p:sp>
          <p:nvSpPr>
            <p:cNvPr id="161" name=""/>
            <p:cNvSpPr/>
            <p:nvPr/>
          </p:nvSpPr>
          <p:spPr>
            <a:xfrm>
              <a:off x="2490840" y="5065920"/>
              <a:ext cx="272880" cy="704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92240" y="5062680"/>
              <a:ext cx="765360" cy="717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235240" y="5072040"/>
              <a:ext cx="0" cy="69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490840" y="5075280"/>
              <a:ext cx="0" cy="69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992240" y="531360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92240" y="553248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235240" y="5313600"/>
              <a:ext cx="252360" cy="215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 flipH="1">
            <a:off x="1990800" y="4287960"/>
            <a:ext cx="528480" cy="77148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87680" y="4371840"/>
            <a:ext cx="164880" cy="68292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5056200" y="4962600"/>
            <a:ext cx="2306160" cy="1010160"/>
            <a:chOff x="5056200" y="4962600"/>
            <a:chExt cx="2306160" cy="1010160"/>
          </a:xfrm>
        </p:grpSpPr>
        <p:sp>
          <p:nvSpPr>
            <p:cNvPr id="171" name=""/>
            <p:cNvSpPr/>
            <p:nvPr/>
          </p:nvSpPr>
          <p:spPr>
            <a:xfrm>
              <a:off x="5056200" y="5046480"/>
              <a:ext cx="252360" cy="215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056200" y="5357520"/>
              <a:ext cx="260280" cy="2221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56200" y="5675040"/>
              <a:ext cx="260280" cy="22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497560" y="496260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f5f5f"/>
                  </a:solidFill>
                  <a:latin typeface="Arial"/>
                </a:rPr>
                <a:t>- acting modu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99360" y="5298840"/>
              <a:ext cx="182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f5f5f"/>
                  </a:solidFill>
                  <a:latin typeface="Arial"/>
                </a:rPr>
                <a:t>- neighbor pres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497560" y="5635440"/>
              <a:ext cx="1864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f5f5f"/>
                  </a:solidFill>
                  <a:latin typeface="Arial"/>
                </a:rPr>
                <a:t>- empty lattice cel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ina Varshavskaya, Leslie Pack Kaelbling, Daniela Ru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99B0-9477-4491-8623-1405A2A96E8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Augus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5f5f"/>
                </a:solidFill>
                <a:latin typeface="Arial"/>
              </a:rPr>
              <a:t>Specific solution: incremental learning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70080" y="3228840"/>
            <a:ext cx="154080" cy="15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325600" y="3230640"/>
            <a:ext cx="154080" cy="15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70080" y="3381480"/>
            <a:ext cx="154080" cy="153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398680" y="2644920"/>
            <a:ext cx="154080" cy="15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092320" y="2644920"/>
            <a:ext cx="154080" cy="15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0800000">
            <a:off x="2243160" y="2643120"/>
            <a:ext cx="154080" cy="154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70080" y="2859120"/>
            <a:ext cx="154080" cy="15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10800000">
            <a:off x="2171520" y="3012840"/>
            <a:ext cx="153720" cy="153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10800000">
            <a:off x="2324160" y="3009960"/>
            <a:ext cx="154080" cy="155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776320" y="25401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76320" y="283068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76320" y="31989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246400" y="3976560"/>
            <a:ext cx="154080" cy="154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10800000">
            <a:off x="2093760" y="3978360"/>
            <a:ext cx="154080" cy="15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rot="10800000">
            <a:off x="2400120" y="3978360"/>
            <a:ext cx="153720" cy="15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10800000">
            <a:off x="2247840" y="3822480"/>
            <a:ext cx="154080" cy="15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247840" y="5308560"/>
            <a:ext cx="150840" cy="154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10800000">
            <a:off x="2093760" y="5460840"/>
            <a:ext cx="154080" cy="15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10800000">
            <a:off x="2247840" y="5460840"/>
            <a:ext cx="154080" cy="15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10800000">
            <a:off x="2398680" y="5459400"/>
            <a:ext cx="154080" cy="15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10800000">
            <a:off x="2322360" y="4361040"/>
            <a:ext cx="154080" cy="150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171880" y="4205160"/>
            <a:ext cx="153720" cy="15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324160" y="4206960"/>
            <a:ext cx="154080" cy="15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171880" y="4359240"/>
            <a:ext cx="153720" cy="154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46400" y="4716360"/>
            <a:ext cx="154080" cy="154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10800000">
            <a:off x="2093760" y="4717800"/>
            <a:ext cx="154080" cy="15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10800000">
            <a:off x="2400120" y="4717800"/>
            <a:ext cx="153720" cy="15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2400120" y="4562280"/>
            <a:ext cx="153720" cy="15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246400" y="5089680"/>
            <a:ext cx="154080" cy="153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10800000">
            <a:off x="2093760" y="4935600"/>
            <a:ext cx="154080" cy="15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10800000">
            <a:off x="2400120" y="5089320"/>
            <a:ext cx="153720" cy="15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0800000">
            <a:off x="2244600" y="4935600"/>
            <a:ext cx="154080" cy="15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776320" y="37908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776320" y="41781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776320" y="457668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76320" y="49039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76320" y="52815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57560" y="1784520"/>
            <a:ext cx="153720" cy="153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255760" y="1936800"/>
            <a:ext cx="154080" cy="15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0800000">
            <a:off x="2170080" y="2170080"/>
            <a:ext cx="154080" cy="154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10800000">
            <a:off x="2322360" y="2171520"/>
            <a:ext cx="154080" cy="15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776320" y="175428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776320" y="206388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486400" y="1981080"/>
            <a:ext cx="6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488200" y="2909880"/>
            <a:ext cx="69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488200" y="4357800"/>
            <a:ext cx="7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4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91040" y="1335240"/>
            <a:ext cx="189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possible observ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699720" y="1335240"/>
            <a:ext cx="429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x 9 possible actions     = total number of para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65520" y="194472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2 mod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65520" y="291636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3 mod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65520" y="456408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4 mod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021320" y="5878440"/>
            <a:ext cx="110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9+ mod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488200" y="5715000"/>
            <a:ext cx="94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2,3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567480" y="3336840"/>
            <a:ext cx="2241360" cy="885240"/>
            <a:chOff x="6567480" y="3336840"/>
            <a:chExt cx="2241360" cy="885240"/>
          </a:xfrm>
        </p:grpSpPr>
        <p:sp>
          <p:nvSpPr>
            <p:cNvPr id="232" name=""/>
            <p:cNvSpPr/>
            <p:nvPr/>
          </p:nvSpPr>
          <p:spPr>
            <a:xfrm>
              <a:off x="6567480" y="3405240"/>
              <a:ext cx="214200" cy="1760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567480" y="3659040"/>
              <a:ext cx="222120" cy="1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944040" y="333684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f5f5f"/>
                  </a:solidFill>
                  <a:latin typeface="Arial"/>
                </a:rPr>
                <a:t>- acting modu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945480" y="3611520"/>
              <a:ext cx="182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f5f5f"/>
                  </a:solidFill>
                  <a:latin typeface="Arial"/>
                </a:rPr>
                <a:t>- neighbor pres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944040" y="3884760"/>
              <a:ext cx="1864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f5f5f"/>
                  </a:solidFill>
                  <a:latin typeface="Arial"/>
                </a:rPr>
                <a:t>- empty lattice cel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ina Varshavskaya, Leslie Pack Kaelbling, Daniela Ru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36C0-5E11-4365-B8CA-A3618AA020F4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Augus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471920" y="3340080"/>
            <a:ext cx="4381560" cy="294948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5f5f"/>
                </a:solidFill>
                <a:latin typeface="Arial"/>
              </a:rPr>
              <a:t>Incremental GAPS (IGAPS) performance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174320" y="5305320"/>
            <a:ext cx="240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808080"/>
                </a:solidFill>
                <a:latin typeface="Arial"/>
              </a:rPr>
              <a:t>Varshavskaya et al 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276120" y="1673280"/>
            <a:ext cx="4324320" cy="29368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557640" y="1344600"/>
            <a:ext cx="397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Mean convergence times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06160" y="2970360"/>
            <a:ext cx="36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Mean average reward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ina Varshavskaya, Leslie Pack Kaelbling, Daniela Ru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EED1-FFE5-44DB-82D5-58219FEE40C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Augus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5f5f"/>
                </a:solidFill>
                <a:latin typeface="Arial"/>
              </a:rPr>
              <a:t>A specific solution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17160" y="1600200"/>
            <a:ext cx="748044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additive nature of modular robot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217520" y="2959200"/>
            <a:ext cx="7491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unclear applicability to other tasks and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217520" y="4527720"/>
            <a:ext cx="748044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faster RL but not fast enough for online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ina Varshavskaya, Leslie Pack Kaelbling, Daniela Ru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65A0-37FB-45E1-8664-C6B7A52E914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Augus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5f5f"/>
                </a:solidFill>
                <a:latin typeface="Arial"/>
              </a:rPr>
              <a:t>Desirable general s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170080" y="3228840"/>
            <a:ext cx="154080" cy="15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325600" y="3230640"/>
            <a:ext cx="154080" cy="15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170080" y="3381480"/>
            <a:ext cx="154080" cy="153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98680" y="2644920"/>
            <a:ext cx="154080" cy="15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092320" y="2644920"/>
            <a:ext cx="154080" cy="15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rot="10800000">
            <a:off x="2243160" y="2643120"/>
            <a:ext cx="154080" cy="154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170080" y="2859120"/>
            <a:ext cx="154080" cy="15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10800000">
            <a:off x="2171520" y="3012840"/>
            <a:ext cx="153720" cy="153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rot="10800000">
            <a:off x="2324160" y="3009960"/>
            <a:ext cx="154080" cy="155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776320" y="25401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776320" y="283068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776320" y="31989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246400" y="3976560"/>
            <a:ext cx="154080" cy="154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rot="10800000">
            <a:off x="2093760" y="3978360"/>
            <a:ext cx="154080" cy="15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rot="10800000">
            <a:off x="2400120" y="3978360"/>
            <a:ext cx="153720" cy="15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10800000">
            <a:off x="2247840" y="3822480"/>
            <a:ext cx="154080" cy="15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47840" y="5308560"/>
            <a:ext cx="150840" cy="154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0800000">
            <a:off x="2093760" y="5460840"/>
            <a:ext cx="154080" cy="15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rot="10800000">
            <a:off x="2247840" y="5460840"/>
            <a:ext cx="154080" cy="15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rot="10800000">
            <a:off x="2398680" y="5459400"/>
            <a:ext cx="154080" cy="15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rot="10800000">
            <a:off x="2322360" y="4361040"/>
            <a:ext cx="154080" cy="150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171880" y="4205160"/>
            <a:ext cx="153720" cy="15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324160" y="4206960"/>
            <a:ext cx="154080" cy="15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171880" y="4359240"/>
            <a:ext cx="153720" cy="154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246400" y="4716360"/>
            <a:ext cx="154080" cy="154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rot="10800000">
            <a:off x="2093760" y="4717800"/>
            <a:ext cx="154080" cy="15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rot="10800000">
            <a:off x="2400120" y="4717800"/>
            <a:ext cx="153720" cy="15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10800000">
            <a:off x="2400120" y="4562280"/>
            <a:ext cx="153720" cy="15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246400" y="5089680"/>
            <a:ext cx="154080" cy="153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10800000">
            <a:off x="2093760" y="4935600"/>
            <a:ext cx="154080" cy="15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0800000">
            <a:off x="2400120" y="5089320"/>
            <a:ext cx="153720" cy="15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10800000">
            <a:off x="2244600" y="4935600"/>
            <a:ext cx="154080" cy="15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776320" y="37908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776320" y="41781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776320" y="457668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6320" y="49039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776320" y="52815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57560" y="1784520"/>
            <a:ext cx="153720" cy="153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255760" y="1936800"/>
            <a:ext cx="154080" cy="15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rot="10800000">
            <a:off x="2170080" y="2170080"/>
            <a:ext cx="154080" cy="154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rot="10800000">
            <a:off x="2322360" y="2171520"/>
            <a:ext cx="154080" cy="15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776320" y="175428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776320" y="206388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391040" y="1335240"/>
            <a:ext cx="189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possible observ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083480" y="1335240"/>
            <a:ext cx="232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total number of para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65520" y="194472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2 mod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965520" y="291636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3 mod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965520" y="456408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4 mod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021320" y="5878440"/>
            <a:ext cx="110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9+ mod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4044960" y="1219320"/>
            <a:ext cx="1667160" cy="4840200"/>
            <a:chOff x="4044960" y="1219320"/>
            <a:chExt cx="1667160" cy="4840200"/>
          </a:xfrm>
        </p:grpSpPr>
        <p:sp>
          <p:nvSpPr>
            <p:cNvPr id="298" name=""/>
            <p:cNvSpPr/>
            <p:nvPr/>
          </p:nvSpPr>
          <p:spPr>
            <a:xfrm>
              <a:off x="4044960" y="1219320"/>
              <a:ext cx="183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809240" y="1800360"/>
              <a:ext cx="90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99"/>
                  </a:solidFill>
                  <a:latin typeface="Arial"/>
                </a:rPr>
                <a:t>small </a:t>
              </a:r>
              <a:r>
                <a:rPr b="0" i="1" lang="en-US" sz="1800" spc="-1" strike="noStrike">
                  <a:solidFill>
                    <a:srgbClr val="009999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809240" y="2714760"/>
              <a:ext cx="90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99"/>
                  </a:solidFill>
                  <a:latin typeface="Arial"/>
                </a:rPr>
                <a:t>small </a:t>
              </a:r>
              <a:r>
                <a:rPr b="0" i="1" lang="en-US" sz="1800" spc="-1" strike="noStrike">
                  <a:solidFill>
                    <a:srgbClr val="009999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809240" y="4388040"/>
              <a:ext cx="90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99"/>
                  </a:solidFill>
                  <a:latin typeface="Arial"/>
                </a:rPr>
                <a:t>small </a:t>
              </a:r>
              <a:r>
                <a:rPr b="0" i="1" lang="en-US" sz="1800" spc="-1" strike="noStrike">
                  <a:solidFill>
                    <a:srgbClr val="009999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809240" y="5691240"/>
              <a:ext cx="90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99"/>
                  </a:solidFill>
                  <a:latin typeface="Arial"/>
                </a:rPr>
                <a:t>small </a:t>
              </a:r>
              <a:r>
                <a:rPr b="0" i="1" lang="en-US" sz="1800" spc="-1" strike="noStrike">
                  <a:solidFill>
                    <a:srgbClr val="009999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6567480" y="3336840"/>
            <a:ext cx="2241360" cy="885240"/>
            <a:chOff x="6567480" y="3336840"/>
            <a:chExt cx="2241360" cy="885240"/>
          </a:xfrm>
        </p:grpSpPr>
        <p:sp>
          <p:nvSpPr>
            <p:cNvPr id="304" name=""/>
            <p:cNvSpPr/>
            <p:nvPr/>
          </p:nvSpPr>
          <p:spPr>
            <a:xfrm>
              <a:off x="6567480" y="3405240"/>
              <a:ext cx="214200" cy="1760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567480" y="3659040"/>
              <a:ext cx="222120" cy="1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944040" y="333684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f5f5f"/>
                  </a:solidFill>
                  <a:latin typeface="Arial"/>
                </a:rPr>
                <a:t>- acting modu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945480" y="3611520"/>
              <a:ext cx="182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f5f5f"/>
                  </a:solidFill>
                  <a:latin typeface="Arial"/>
                </a:rPr>
                <a:t>- neighbor pres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944040" y="3884760"/>
              <a:ext cx="1864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f5f5f"/>
                  </a:solidFill>
                  <a:latin typeface="Arial"/>
                </a:rPr>
                <a:t>- empty lattice cel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ina Varshavskaya, Leslie Pack Kaelbling, Daniela Ru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329F-92F2-44FD-9F0C-504811AE46E7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Augus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5284800" y="1600200"/>
            <a:ext cx="3833640" cy="207792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843120" y="1630440"/>
            <a:ext cx="3752640" cy="203364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>
            <a:off x="893880" y="3770280"/>
            <a:ext cx="3609720" cy="195588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4"/>
          <a:stretch/>
        </p:blipFill>
        <p:spPr>
          <a:xfrm>
            <a:off x="5376960" y="3770280"/>
            <a:ext cx="3652920" cy="19782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457200" y="2746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5f5f"/>
                </a:solidFill>
                <a:latin typeface="Arial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325520" y="3594240"/>
            <a:ext cx="919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602320" y="3568680"/>
            <a:ext cx="919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8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990800" y="3483000"/>
            <a:ext cx="88920" cy="581040"/>
          </a:xfrm>
          <a:custGeom>
            <a:avLst/>
            <a:gdLst>
              <a:gd name="textAreaLeft" fmla="*/ 56880 w 88920"/>
              <a:gd name="textAreaRight" fmla="*/ 89280 w 88920"/>
              <a:gd name="textAreaTop" fmla="*/ 15120 h 581040"/>
              <a:gd name="textAreaBottom" fmla="*/ 565920 h 581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057400" y="3462480"/>
            <a:ext cx="24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upper left corner full &amp;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=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297480" y="3448080"/>
            <a:ext cx="88920" cy="581040"/>
          </a:xfrm>
          <a:custGeom>
            <a:avLst/>
            <a:gdLst>
              <a:gd name="textAreaLeft" fmla="*/ 56880 w 88920"/>
              <a:gd name="textAreaRight" fmla="*/ 89280 w 88920"/>
              <a:gd name="textAreaTop" fmla="*/ 15120 h 581040"/>
              <a:gd name="textAreaBottom" fmla="*/ 565920 h 581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354000" y="3427560"/>
            <a:ext cx="272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upper right corner empty &amp;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=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201680" y="5654520"/>
            <a:ext cx="919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421240" y="5692680"/>
            <a:ext cx="919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7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866960" y="5543640"/>
            <a:ext cx="88920" cy="581040"/>
          </a:xfrm>
          <a:custGeom>
            <a:avLst/>
            <a:gdLst>
              <a:gd name="textAreaLeft" fmla="*/ 56880 w 88920"/>
              <a:gd name="textAreaRight" fmla="*/ 89280 w 88920"/>
              <a:gd name="textAreaTop" fmla="*/ 15120 h 581040"/>
              <a:gd name="textAreaBottom" fmla="*/ 565920 h 581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35360" y="5522760"/>
            <a:ext cx="227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empty row in front &amp;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=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116760" y="5572080"/>
            <a:ext cx="88920" cy="581040"/>
          </a:xfrm>
          <a:custGeom>
            <a:avLst/>
            <a:gdLst>
              <a:gd name="textAreaLeft" fmla="*/ 56880 w 88920"/>
              <a:gd name="textAreaRight" fmla="*/ 89280 w 88920"/>
              <a:gd name="textAreaTop" fmla="*/ 15120 h 581040"/>
              <a:gd name="textAreaBottom" fmla="*/ 565920 h 581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174360" y="5551560"/>
            <a:ext cx="256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upper left corner empty &amp;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=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349200" y="2840040"/>
            <a:ext cx="765360" cy="717480"/>
            <a:chOff x="349200" y="2840040"/>
            <a:chExt cx="765360" cy="717480"/>
          </a:xfrm>
        </p:grpSpPr>
        <p:sp>
          <p:nvSpPr>
            <p:cNvPr id="327" name=""/>
            <p:cNvSpPr/>
            <p:nvPr/>
          </p:nvSpPr>
          <p:spPr>
            <a:xfrm>
              <a:off x="349200" y="2840040"/>
              <a:ext cx="765360" cy="7174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52440" y="2842920"/>
              <a:ext cx="488880" cy="243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52440" y="3090600"/>
              <a:ext cx="247680" cy="219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2200" y="2849400"/>
              <a:ext cx="0" cy="69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47800" y="2852640"/>
              <a:ext cx="0" cy="69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9200" y="309060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9200" y="330984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92200" y="3090600"/>
              <a:ext cx="252360" cy="216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4834080" y="2809800"/>
            <a:ext cx="765000" cy="720720"/>
            <a:chOff x="4834080" y="2809800"/>
            <a:chExt cx="765000" cy="720720"/>
          </a:xfrm>
        </p:grpSpPr>
        <p:sp>
          <p:nvSpPr>
            <p:cNvPr id="336" name=""/>
            <p:cNvSpPr/>
            <p:nvPr/>
          </p:nvSpPr>
          <p:spPr>
            <a:xfrm>
              <a:off x="4834080" y="2813040"/>
              <a:ext cx="765000" cy="71748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7" name=""/>
            <p:cNvGrpSpPr/>
            <p:nvPr/>
          </p:nvGrpSpPr>
          <p:grpSpPr>
            <a:xfrm>
              <a:off x="5067360" y="2809800"/>
              <a:ext cx="529920" cy="477720"/>
              <a:chOff x="5067360" y="2809800"/>
              <a:chExt cx="529920" cy="477720"/>
            </a:xfrm>
          </p:grpSpPr>
          <p:sp>
            <p:nvSpPr>
              <p:cNvPr id="338" name=""/>
              <p:cNvSpPr/>
              <p:nvPr/>
            </p:nvSpPr>
            <p:spPr>
              <a:xfrm rot="5400000">
                <a:off x="5223240" y="2913480"/>
                <a:ext cx="477720" cy="27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5400000">
                <a:off x="5077800" y="2799000"/>
                <a:ext cx="241920" cy="263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>
              <a:off x="5077080" y="2822400"/>
              <a:ext cx="0" cy="69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332680" y="2825640"/>
              <a:ext cx="0" cy="69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34080" y="306360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834080" y="328284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077080" y="3063600"/>
              <a:ext cx="252360" cy="216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404640" y="4902120"/>
            <a:ext cx="771480" cy="717480"/>
            <a:chOff x="404640" y="4902120"/>
            <a:chExt cx="771480" cy="717480"/>
          </a:xfrm>
        </p:grpSpPr>
        <p:sp>
          <p:nvSpPr>
            <p:cNvPr id="346" name=""/>
            <p:cNvSpPr/>
            <p:nvPr/>
          </p:nvSpPr>
          <p:spPr>
            <a:xfrm>
              <a:off x="404640" y="4902120"/>
              <a:ext cx="765360" cy="7174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903240" y="4905360"/>
              <a:ext cx="272880" cy="704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7640" y="4911480"/>
              <a:ext cx="0" cy="69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903240" y="4914720"/>
              <a:ext cx="0" cy="69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04640" y="515304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04640" y="537192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47640" y="5153040"/>
              <a:ext cx="252360" cy="215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4894200" y="4940280"/>
            <a:ext cx="765000" cy="717480"/>
            <a:chOff x="4894200" y="4940280"/>
            <a:chExt cx="765000" cy="717480"/>
          </a:xfrm>
        </p:grpSpPr>
        <p:sp>
          <p:nvSpPr>
            <p:cNvPr id="354" name=""/>
            <p:cNvSpPr/>
            <p:nvPr/>
          </p:nvSpPr>
          <p:spPr>
            <a:xfrm>
              <a:off x="4894200" y="4940280"/>
              <a:ext cx="765000" cy="71748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4897440" y="4943520"/>
              <a:ext cx="488880" cy="476280"/>
              <a:chOff x="4897440" y="4943520"/>
              <a:chExt cx="488880" cy="476280"/>
            </a:xfrm>
          </p:grpSpPr>
          <p:sp>
            <p:nvSpPr>
              <p:cNvPr id="356" name=""/>
              <p:cNvSpPr/>
              <p:nvPr/>
            </p:nvSpPr>
            <p:spPr>
              <a:xfrm>
                <a:off x="4897440" y="4943520"/>
                <a:ext cx="488880" cy="243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897440" y="5183280"/>
                <a:ext cx="247680" cy="236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5136840" y="4950000"/>
              <a:ext cx="0" cy="69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392440" y="4952880"/>
              <a:ext cx="0" cy="69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894200" y="519120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894200" y="541008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136840" y="5191200"/>
              <a:ext cx="252720" cy="216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1473120" y="1284120"/>
            <a:ext cx="25236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479760" y="1273320"/>
            <a:ext cx="252360" cy="23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705640" y="1260360"/>
            <a:ext cx="252360" cy="23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481560" y="1606680"/>
            <a:ext cx="252360" cy="2491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747440" y="1239840"/>
            <a:ext cx="161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ing mo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738240" y="1219320"/>
            <a:ext cx="18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ighbor pres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960160" y="1198440"/>
            <a:ext cx="150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pty 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748680" y="1563840"/>
            <a:ext cx="124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n’t c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ina Varshavskaya, Leslie Pack Kaelbling, Daniela Ru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2C42-0004-43A0-998E-1D0ECFE9D522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Augus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457200" y="27468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5f5f"/>
                </a:solidFill>
                <a:latin typeface="Arial"/>
              </a:rPr>
              <a:t>Approximation by feature spa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58720" y="1600200"/>
            <a:ext cx="527688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define a number of feature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over the observation-action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59440" y="3124080"/>
            <a:ext cx="55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policy computed from the dot product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e feature vector and parameters </a:t>
            </a:r>
            <a:r>
              <a:rPr b="0" i="1" lang="el-GR" sz="2400" spc="-1" strike="noStrike">
                <a:solidFill>
                  <a:srgbClr val="5f5f5f"/>
                </a:solidFill>
                <a:latin typeface="Arial"/>
                <a:ea typeface="Arial"/>
              </a:rPr>
              <a:t>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744560" y="5156280"/>
            <a:ext cx="565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a few features approximate the desired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learning with a modified log-linear GAPS (LLGA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4019400" y="3746520"/>
                <a:ext cx="4060800" cy="13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Φ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θ</m:t>
                            </m:r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  <m:r>
                              <m:t xml:space="preserve">'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Φ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a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',</m:t>
                                </m:r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θ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5581800" y="1562040"/>
                <a:ext cx="2226960" cy="13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o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ϕ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t xml:space="preserve">,</m:t>
                              </m:r>
                              <m:r>
                                <m:t xml:space="preserve">o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⋯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ϕ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t xml:space="preserve">,</m:t>
                              </m:r>
                              <m:r>
                                <m:t xml:space="preserve">o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ina Varshavskaya, Leslie Pack Kaelbling, Daniela Ru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767D-DCC1-4D18-8F87-2AF0FE558317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Augus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457200" y="17316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5f5f"/>
                </a:solidFill>
                <a:latin typeface="Arial"/>
              </a:rPr>
              <a:t>Full feature s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801720" y="2673360"/>
            <a:ext cx="771480" cy="717480"/>
            <a:chOff x="801720" y="2673360"/>
            <a:chExt cx="771480" cy="717480"/>
          </a:xfrm>
        </p:grpSpPr>
        <p:sp>
          <p:nvSpPr>
            <p:cNvPr id="379" name=""/>
            <p:cNvSpPr/>
            <p:nvPr/>
          </p:nvSpPr>
          <p:spPr>
            <a:xfrm>
              <a:off x="801720" y="2673360"/>
              <a:ext cx="765000" cy="7174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300320" y="2676600"/>
              <a:ext cx="272880" cy="704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044720" y="2682720"/>
              <a:ext cx="0" cy="69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300320" y="2685960"/>
              <a:ext cx="0" cy="69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01720" y="292428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01720" y="314316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44720" y="2924280"/>
              <a:ext cx="252360" cy="215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790560" y="1830240"/>
            <a:ext cx="777960" cy="725760"/>
            <a:chOff x="790560" y="1830240"/>
            <a:chExt cx="777960" cy="725760"/>
          </a:xfrm>
        </p:grpSpPr>
        <p:sp>
          <p:nvSpPr>
            <p:cNvPr id="387" name=""/>
            <p:cNvSpPr/>
            <p:nvPr/>
          </p:nvSpPr>
          <p:spPr>
            <a:xfrm>
              <a:off x="803160" y="1836720"/>
              <a:ext cx="765360" cy="717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90560" y="1830240"/>
              <a:ext cx="252360" cy="725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46160" y="1846440"/>
              <a:ext cx="0" cy="69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301760" y="1849320"/>
              <a:ext cx="0" cy="69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03160" y="208764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03160" y="230652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046160" y="2087640"/>
              <a:ext cx="252360" cy="216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2664000" y="1824120"/>
            <a:ext cx="765000" cy="717480"/>
            <a:chOff x="2664000" y="1824120"/>
            <a:chExt cx="765000" cy="717480"/>
          </a:xfrm>
        </p:grpSpPr>
        <p:sp>
          <p:nvSpPr>
            <p:cNvPr id="395" name=""/>
            <p:cNvSpPr/>
            <p:nvPr/>
          </p:nvSpPr>
          <p:spPr>
            <a:xfrm>
              <a:off x="2664000" y="1824120"/>
              <a:ext cx="765000" cy="717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664000" y="1827360"/>
              <a:ext cx="501480" cy="242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664000" y="2073240"/>
              <a:ext cx="250560" cy="217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906640" y="1833480"/>
              <a:ext cx="0" cy="69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162240" y="1836720"/>
              <a:ext cx="0" cy="69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664000" y="207504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664000" y="229392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06640" y="2075040"/>
              <a:ext cx="252360" cy="215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817560" y="3497400"/>
            <a:ext cx="770040" cy="723600"/>
            <a:chOff x="817560" y="3497400"/>
            <a:chExt cx="770040" cy="723600"/>
          </a:xfrm>
        </p:grpSpPr>
        <p:sp>
          <p:nvSpPr>
            <p:cNvPr id="404" name=""/>
            <p:cNvSpPr/>
            <p:nvPr/>
          </p:nvSpPr>
          <p:spPr>
            <a:xfrm>
              <a:off x="822240" y="3503520"/>
              <a:ext cx="765360" cy="7174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17560" y="3497400"/>
              <a:ext cx="768240" cy="26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065240" y="3513240"/>
              <a:ext cx="0" cy="69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320840" y="3516480"/>
              <a:ext cx="0" cy="69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22240" y="375444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22240" y="397368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065240" y="3754440"/>
              <a:ext cx="252360" cy="216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838080" y="4322880"/>
            <a:ext cx="770040" cy="717480"/>
            <a:chOff x="838080" y="4322880"/>
            <a:chExt cx="770040" cy="717480"/>
          </a:xfrm>
        </p:grpSpPr>
        <p:sp>
          <p:nvSpPr>
            <p:cNvPr id="412" name=""/>
            <p:cNvSpPr/>
            <p:nvPr/>
          </p:nvSpPr>
          <p:spPr>
            <a:xfrm>
              <a:off x="838080" y="4322880"/>
              <a:ext cx="765360" cy="7174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41320" y="4797360"/>
              <a:ext cx="766800" cy="243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081080" y="4332240"/>
              <a:ext cx="0" cy="69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336680" y="4335480"/>
              <a:ext cx="0" cy="69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38080" y="457344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38080" y="479268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081080" y="4573440"/>
              <a:ext cx="252360" cy="216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2665440" y="2666880"/>
            <a:ext cx="766800" cy="722520"/>
            <a:chOff x="2665440" y="2666880"/>
            <a:chExt cx="766800" cy="722520"/>
          </a:xfrm>
        </p:grpSpPr>
        <p:sp>
          <p:nvSpPr>
            <p:cNvPr id="420" name=""/>
            <p:cNvSpPr/>
            <p:nvPr/>
          </p:nvSpPr>
          <p:spPr>
            <a:xfrm>
              <a:off x="2666880" y="2666880"/>
              <a:ext cx="765360" cy="71784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rot="16200000">
              <a:off x="2555640" y="3025800"/>
              <a:ext cx="473040" cy="253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rot="16200000">
              <a:off x="2910600" y="3133800"/>
              <a:ext cx="252360" cy="254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909880" y="2676600"/>
              <a:ext cx="0" cy="69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165480" y="2679840"/>
              <a:ext cx="0" cy="69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666880" y="291780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666880" y="314316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909880" y="2917800"/>
              <a:ext cx="252360" cy="225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2670120" y="3506760"/>
            <a:ext cx="765360" cy="717480"/>
            <a:chOff x="2670120" y="3506760"/>
            <a:chExt cx="765360" cy="717480"/>
          </a:xfrm>
        </p:grpSpPr>
        <p:sp>
          <p:nvSpPr>
            <p:cNvPr id="429" name=""/>
            <p:cNvSpPr/>
            <p:nvPr/>
          </p:nvSpPr>
          <p:spPr>
            <a:xfrm>
              <a:off x="2670120" y="3506760"/>
              <a:ext cx="765360" cy="7174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rot="5400000">
              <a:off x="3065760" y="3604320"/>
              <a:ext cx="465120" cy="269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5400000">
              <a:off x="2917800" y="3502080"/>
              <a:ext cx="247680" cy="2570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913120" y="3516480"/>
              <a:ext cx="0" cy="69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168720" y="3519360"/>
              <a:ext cx="0" cy="69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670120" y="375768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670120" y="397656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913120" y="3757680"/>
              <a:ext cx="252360" cy="216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2681280" y="4316400"/>
            <a:ext cx="770040" cy="717480"/>
            <a:chOff x="2681280" y="4316400"/>
            <a:chExt cx="770040" cy="717480"/>
          </a:xfrm>
        </p:grpSpPr>
        <p:sp>
          <p:nvSpPr>
            <p:cNvPr id="438" name=""/>
            <p:cNvSpPr/>
            <p:nvPr/>
          </p:nvSpPr>
          <p:spPr>
            <a:xfrm>
              <a:off x="2681280" y="4316400"/>
              <a:ext cx="765360" cy="71748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10800000">
              <a:off x="2917800" y="4787640"/>
              <a:ext cx="533520" cy="245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rot="10800000">
              <a:off x="3181320" y="4570200"/>
              <a:ext cx="270000" cy="214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924280" y="4325760"/>
              <a:ext cx="0" cy="69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179880" y="4329000"/>
              <a:ext cx="0" cy="69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681280" y="456732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681280" y="478620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24280" y="4567320"/>
              <a:ext cx="252360" cy="215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4557600" y="2673360"/>
            <a:ext cx="768600" cy="717480"/>
            <a:chOff x="4557600" y="2673360"/>
            <a:chExt cx="768600" cy="717480"/>
          </a:xfrm>
        </p:grpSpPr>
        <p:sp>
          <p:nvSpPr>
            <p:cNvPr id="447" name=""/>
            <p:cNvSpPr/>
            <p:nvPr/>
          </p:nvSpPr>
          <p:spPr>
            <a:xfrm>
              <a:off x="4557600" y="2673360"/>
              <a:ext cx="765360" cy="71748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052960" y="2673360"/>
              <a:ext cx="273240" cy="71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00600" y="2682720"/>
              <a:ext cx="0" cy="69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056200" y="2685960"/>
              <a:ext cx="0" cy="69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557600" y="292428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557600" y="314316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800600" y="2924280"/>
              <a:ext cx="252360" cy="215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4556160" y="1830240"/>
            <a:ext cx="768240" cy="725760"/>
            <a:chOff x="4556160" y="1830240"/>
            <a:chExt cx="768240" cy="725760"/>
          </a:xfrm>
        </p:grpSpPr>
        <p:sp>
          <p:nvSpPr>
            <p:cNvPr id="455" name=""/>
            <p:cNvSpPr/>
            <p:nvPr/>
          </p:nvSpPr>
          <p:spPr>
            <a:xfrm>
              <a:off x="4559400" y="1836720"/>
              <a:ext cx="765000" cy="71748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556160" y="1830240"/>
              <a:ext cx="252360" cy="72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802040" y="1846440"/>
              <a:ext cx="0" cy="69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057640" y="1849320"/>
              <a:ext cx="0" cy="69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559400" y="208764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559400" y="230652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802040" y="2087640"/>
              <a:ext cx="252720" cy="216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6485040" y="1825560"/>
            <a:ext cx="765000" cy="717480"/>
            <a:chOff x="6485040" y="1825560"/>
            <a:chExt cx="765000" cy="717480"/>
          </a:xfrm>
        </p:grpSpPr>
        <p:sp>
          <p:nvSpPr>
            <p:cNvPr id="463" name=""/>
            <p:cNvSpPr/>
            <p:nvPr/>
          </p:nvSpPr>
          <p:spPr>
            <a:xfrm>
              <a:off x="6485040" y="1825560"/>
              <a:ext cx="765000" cy="71748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488280" y="1828800"/>
              <a:ext cx="488880" cy="2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485040" y="2071800"/>
              <a:ext cx="247680" cy="220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727680" y="1835280"/>
              <a:ext cx="0" cy="69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983280" y="1838160"/>
              <a:ext cx="0" cy="69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485040" y="207648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485040" y="229536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727680" y="2076480"/>
              <a:ext cx="252720" cy="216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4573440" y="3503520"/>
            <a:ext cx="770040" cy="717480"/>
            <a:chOff x="4573440" y="3503520"/>
            <a:chExt cx="770040" cy="717480"/>
          </a:xfrm>
        </p:grpSpPr>
        <p:sp>
          <p:nvSpPr>
            <p:cNvPr id="472" name=""/>
            <p:cNvSpPr/>
            <p:nvPr/>
          </p:nvSpPr>
          <p:spPr>
            <a:xfrm>
              <a:off x="4578480" y="3503520"/>
              <a:ext cx="765000" cy="71748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573440" y="3506760"/>
              <a:ext cx="768600" cy="244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821120" y="3513240"/>
              <a:ext cx="0" cy="69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076720" y="3516480"/>
              <a:ext cx="0" cy="69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578480" y="375444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578480" y="397368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821120" y="3754440"/>
              <a:ext cx="252360" cy="216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4594320" y="4322880"/>
            <a:ext cx="765000" cy="720720"/>
            <a:chOff x="4594320" y="4322880"/>
            <a:chExt cx="765000" cy="720720"/>
          </a:xfrm>
        </p:grpSpPr>
        <p:sp>
          <p:nvSpPr>
            <p:cNvPr id="480" name=""/>
            <p:cNvSpPr/>
            <p:nvPr/>
          </p:nvSpPr>
          <p:spPr>
            <a:xfrm>
              <a:off x="4594320" y="4322880"/>
              <a:ext cx="765000" cy="71748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595760" y="4794120"/>
              <a:ext cx="757440" cy="24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836960" y="4332240"/>
              <a:ext cx="0" cy="69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092560" y="4335480"/>
              <a:ext cx="0" cy="69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594320" y="457344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594320" y="479268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836960" y="4573440"/>
              <a:ext cx="252720" cy="216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6486480" y="2668680"/>
            <a:ext cx="766800" cy="720360"/>
            <a:chOff x="6486480" y="2668680"/>
            <a:chExt cx="766800" cy="720360"/>
          </a:xfrm>
        </p:grpSpPr>
        <p:sp>
          <p:nvSpPr>
            <p:cNvPr id="488" name=""/>
            <p:cNvSpPr/>
            <p:nvPr/>
          </p:nvSpPr>
          <p:spPr>
            <a:xfrm>
              <a:off x="6488280" y="2668680"/>
              <a:ext cx="765000" cy="71748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16200000">
              <a:off x="6379920" y="3028320"/>
              <a:ext cx="466920" cy="25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16200000">
              <a:off x="6733440" y="3135960"/>
              <a:ext cx="249120" cy="25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730920" y="2678040"/>
              <a:ext cx="0" cy="69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986520" y="2681280"/>
              <a:ext cx="0" cy="69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488280" y="291924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88280" y="313848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730920" y="2919240"/>
              <a:ext cx="252360" cy="216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6491160" y="3508200"/>
            <a:ext cx="765360" cy="717840"/>
            <a:chOff x="6491160" y="3508200"/>
            <a:chExt cx="765360" cy="717840"/>
          </a:xfrm>
        </p:grpSpPr>
        <p:sp>
          <p:nvSpPr>
            <p:cNvPr id="497" name=""/>
            <p:cNvSpPr/>
            <p:nvPr/>
          </p:nvSpPr>
          <p:spPr>
            <a:xfrm>
              <a:off x="6491160" y="3508200"/>
              <a:ext cx="765360" cy="71784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rot="5400000">
              <a:off x="6886800" y="3606120"/>
              <a:ext cx="465480" cy="26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5400000">
              <a:off x="6737400" y="3504960"/>
              <a:ext cx="247680" cy="25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734160" y="3517920"/>
              <a:ext cx="0" cy="69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989760" y="3521160"/>
              <a:ext cx="0" cy="69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491160" y="375912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491160" y="397836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734160" y="3759120"/>
              <a:ext cx="252360" cy="216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6502320" y="4317840"/>
            <a:ext cx="765360" cy="717840"/>
            <a:chOff x="6502320" y="4317840"/>
            <a:chExt cx="765360" cy="717840"/>
          </a:xfrm>
        </p:grpSpPr>
        <p:sp>
          <p:nvSpPr>
            <p:cNvPr id="506" name=""/>
            <p:cNvSpPr/>
            <p:nvPr/>
          </p:nvSpPr>
          <p:spPr>
            <a:xfrm>
              <a:off x="6502320" y="4317840"/>
              <a:ext cx="765360" cy="71784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6739200" y="4567320"/>
              <a:ext cx="526680" cy="462960"/>
              <a:chOff x="6739200" y="4567320"/>
              <a:chExt cx="526680" cy="462960"/>
            </a:xfrm>
          </p:grpSpPr>
          <p:sp>
            <p:nvSpPr>
              <p:cNvPr id="508" name=""/>
              <p:cNvSpPr/>
              <p:nvPr/>
            </p:nvSpPr>
            <p:spPr>
              <a:xfrm rot="10800000">
                <a:off x="6739200" y="4794120"/>
                <a:ext cx="526680" cy="236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rot="10800000">
                <a:off x="6999120" y="4567320"/>
                <a:ext cx="266760" cy="230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6745320" y="4327560"/>
              <a:ext cx="0" cy="69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000920" y="4330800"/>
              <a:ext cx="0" cy="69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502320" y="456876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502320" y="478800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745320" y="4568760"/>
              <a:ext cx="252360" cy="216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"/>
          <p:cNvSpPr/>
          <p:nvPr/>
        </p:nvSpPr>
        <p:spPr>
          <a:xfrm>
            <a:off x="1806480" y="2689200"/>
            <a:ext cx="451080" cy="668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892160" y="2701800"/>
            <a:ext cx="354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819440" y="1874880"/>
            <a:ext cx="450720" cy="6681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893960" y="1887480"/>
            <a:ext cx="35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819440" y="3551400"/>
            <a:ext cx="450720" cy="6681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905120" y="3564000"/>
            <a:ext cx="35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841400" y="4348080"/>
            <a:ext cx="451080" cy="668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905120" y="4370400"/>
            <a:ext cx="35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670200" y="2647800"/>
            <a:ext cx="451080" cy="668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683160" y="1833480"/>
            <a:ext cx="450720" cy="668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683160" y="3510000"/>
            <a:ext cx="450720" cy="6681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705120" y="4307040"/>
            <a:ext cx="451080" cy="6681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551560" y="2658960"/>
            <a:ext cx="450720" cy="668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564160" y="1844640"/>
            <a:ext cx="450720" cy="668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5564160" y="3521160"/>
            <a:ext cx="450720" cy="6681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586480" y="4317840"/>
            <a:ext cx="450720" cy="668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480440" y="2649600"/>
            <a:ext cx="450720" cy="6681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493040" y="1835280"/>
            <a:ext cx="450720" cy="6681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493040" y="3511440"/>
            <a:ext cx="450720" cy="668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515360" y="4308480"/>
            <a:ext cx="450720" cy="6681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758040" y="502920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4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825480" y="5619600"/>
            <a:ext cx="25236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200400" y="5608800"/>
            <a:ext cx="252360" cy="23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730840" y="5595840"/>
            <a:ext cx="252360" cy="23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201840" y="5942160"/>
            <a:ext cx="252720" cy="24912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101960" y="555156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ng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460680" y="5530680"/>
            <a:ext cx="20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ighbor pre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985720" y="551016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ty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469680" y="587520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’t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89040" y="1519200"/>
            <a:ext cx="9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ob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556000" y="1519200"/>
            <a:ext cx="9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ob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451400" y="1519200"/>
            <a:ext cx="9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ob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404040" y="1519200"/>
            <a:ext cx="9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ob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756440" y="1519200"/>
            <a:ext cx="58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613680" y="1519200"/>
            <a:ext cx="58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490000" y="1519200"/>
            <a:ext cx="58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433280" y="1519200"/>
            <a:ext cx="58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760920" y="1874880"/>
            <a:ext cx="35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760920" y="2666880"/>
            <a:ext cx="35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760920" y="3551400"/>
            <a:ext cx="35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760920" y="4389480"/>
            <a:ext cx="35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638680" y="1874880"/>
            <a:ext cx="354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589720" y="2666880"/>
            <a:ext cx="35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638680" y="3551400"/>
            <a:ext cx="354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665680" y="4343400"/>
            <a:ext cx="354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543800" y="2666880"/>
            <a:ext cx="35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570800" y="1874880"/>
            <a:ext cx="35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570800" y="3551400"/>
            <a:ext cx="35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570800" y="4343400"/>
            <a:ext cx="35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ina Varshavskaya, Leslie Pack Kaelbling, Daniela Ru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E22B-4DB2-4974-8296-C6E82C993305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Augus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5f5f"/>
                </a:solidFill>
                <a:latin typeface="Arial"/>
              </a:rPr>
              <a:t>Performance comparison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228600" y="1957320"/>
            <a:ext cx="4343400" cy="351648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4545000" y="3432240"/>
            <a:ext cx="4299120" cy="290196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88920" y="2387520"/>
            <a:ext cx="596880" cy="1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rot="16200000">
            <a:off x="186480" y="3495240"/>
            <a:ext cx="640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war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70440" y="1382760"/>
            <a:ext cx="419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Performance as learning progres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Smoothed average reward over 10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815360" y="3097080"/>
            <a:ext cx="397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Mean convergence times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ina Varshavskaya, Leslie Pack Kaelbling, Daniela Ru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1E45-3284-4927-B4DF-3DFD8E435F5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Augus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" descr=""/>
          <p:cNvPicPr/>
          <p:nvPr/>
        </p:nvPicPr>
        <p:blipFill>
          <a:blip r:embed="rId1"/>
          <a:stretch/>
        </p:blipFill>
        <p:spPr>
          <a:xfrm>
            <a:off x="4343400" y="2544840"/>
            <a:ext cx="4800600" cy="3600360"/>
          </a:xfrm>
          <a:prstGeom prst="rect">
            <a:avLst/>
          </a:prstGeom>
          <a:ln w="0">
            <a:noFill/>
          </a:ln>
        </p:spPr>
      </p:pic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5f5f"/>
                </a:solidFill>
                <a:latin typeface="Arial"/>
              </a:rPr>
              <a:t>Learned locomotion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635040" y="2932200"/>
            <a:ext cx="3558960" cy="0"/>
          </a:xfrm>
          <a:prstGeom prst="line">
            <a:avLst/>
          </a:prstGeom>
          <a:ln w="19080">
            <a:solidFill>
              <a:srgbClr val="ca5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2"/>
          <a:stretch/>
        </p:blipFill>
        <p:spPr>
          <a:xfrm>
            <a:off x="638280" y="1697040"/>
            <a:ext cx="4186080" cy="1222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ina Varshavskaya, Leslie Pack Kaelbling, Daniela Ru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4FE6-D841-4E91-8C7E-0D59E01B080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Augus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9" dur="54974" fill="hold"/>
                                        <p:tgtEl>
                                          <p:spTgt spid="5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" restart="whenNotActive" nodeType="interactiveSeq" fill="hold">
                <p:stCondLst>
                  <p:cond evt="onClick">
                    <p:tgtEl>
                      <p:spTgt spid="574"/>
                    </p:tgtEl>
                  </p:cond>
                </p:stCondLst>
                <p:childTnLst>
                  <p:par>
                    <p:cTn id="241" fill="hold">
                      <p:stCondLst>
                        <p:cond evt="onClick">
                          <p:tgtEl>
                            <p:spTgt spid="574"/>
                          </p:tgtEl>
                        </p:cond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4" dur="1" fill="hold"/>
                                        <p:tgtEl>
                                          <p:spTgt spid="5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438200" y="1294920"/>
            <a:ext cx="6997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motivate reinforcement learning (RL)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38200" y="2119320"/>
            <a:ext cx="6172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larger modular system 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38200" y="2941560"/>
            <a:ext cx="7061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a specific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38200" y="3765600"/>
            <a:ext cx="6172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a general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38200" y="4587840"/>
            <a:ext cx="6172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experiments in 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38200" y="5410080"/>
            <a:ext cx="6172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related current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ina Varshavskaya, Leslie Pack Kaelbling, Daniela Ru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B222-7F9B-413C-A7D5-5BA0E8C62F3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Augus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5f5f"/>
                </a:solidFill>
                <a:latin typeface="Arial"/>
              </a:rPr>
              <a:t>Summary so far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076400" y="1504440"/>
            <a:ext cx="7610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reinforcement learning for modular robots with more realistic observability assumption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learning algorithm with feature representation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results in locomotion by self-reconfiguration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ina Varshavskaya, Leslie Pack Kaelbling, Daniela Ru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F679-1C77-4402-BB8E-9FA8A548FEF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Augus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5f5f"/>
                </a:solidFill>
                <a:latin typeface="Arial"/>
              </a:rPr>
              <a:t>Advantages of a feature representation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130400" y="1358640"/>
            <a:ext cx="7556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faster learning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number of parameters independent of robot size or observation space size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domain knowledge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don’t try to move into an occupied cell”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features can be designed for many tasks and robot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ina Varshavskaya, Leslie Pack Kaelbling, Daniela Ru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0260-CB84-4E80-BB24-EB0453A6DA1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Augus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5f5f"/>
                </a:solidFill>
                <a:latin typeface="Arial"/>
              </a:rPr>
              <a:t>Current work: asynchronous execution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4714920" y="1671480"/>
            <a:ext cx="4032360" cy="317196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>
            <a:off x="695880" y="4799160"/>
            <a:ext cx="322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5f5f5f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 observations, 11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only 220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rot="16200000">
            <a:off x="4593240" y="3075840"/>
            <a:ext cx="640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war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483080" y="1828800"/>
            <a:ext cx="64764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ina Varshavskaya, Leslie Pack Kaelbling, Daniela Ru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D9F6-725F-4AFC-A879-94397078063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Augus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5f5f"/>
                </a:solidFill>
                <a:latin typeface="Arial"/>
              </a:rPr>
              <a:t>Current work: large system locomotion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912960" y="2554200"/>
            <a:ext cx="4440240" cy="0"/>
          </a:xfrm>
          <a:prstGeom prst="line">
            <a:avLst/>
          </a:prstGeom>
          <a:ln w="19080">
            <a:solidFill>
              <a:srgbClr val="ca5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912960" y="4392720"/>
            <a:ext cx="4440240" cy="0"/>
          </a:xfrm>
          <a:prstGeom prst="line">
            <a:avLst/>
          </a:prstGeom>
          <a:ln w="19080">
            <a:solidFill>
              <a:srgbClr val="ca5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007320" y="217008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20 mo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007320" y="403704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70 mo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923760" y="1711440"/>
            <a:ext cx="4248360" cy="819000"/>
          </a:xfrm>
          <a:prstGeom prst="rect">
            <a:avLst/>
          </a:prstGeom>
          <a:ln w="0">
            <a:noFill/>
          </a:ln>
        </p:spPr>
      </p:pic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885960" y="3540240"/>
            <a:ext cx="4248000" cy="81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ina Varshavskaya, Leslie Pack Kaelbling, Daniela Ru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5FF7-D2DE-4EE5-B9DB-1B9BEB95526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Augus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0" dur="45869" fill="hold"/>
                                        <p:tgtEl>
                                          <p:spTgt spid="5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1" nodeType="with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2" dur="61018" fill="hold"/>
                                        <p:tgtEl>
                                          <p:spTgt spid="5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5f5f"/>
                </a:solidFill>
                <a:latin typeface="Arial"/>
              </a:rPr>
              <a:t>Current work: complex reward 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1114560" y="1716120"/>
            <a:ext cx="6593040" cy="3306600"/>
            <a:chOff x="1114560" y="1716120"/>
            <a:chExt cx="6593040" cy="3306600"/>
          </a:xfrm>
        </p:grpSpPr>
        <p:grpSp>
          <p:nvGrpSpPr>
            <p:cNvPr id="593" name=""/>
            <p:cNvGrpSpPr/>
            <p:nvPr/>
          </p:nvGrpSpPr>
          <p:grpSpPr>
            <a:xfrm>
              <a:off x="2846520" y="2365200"/>
              <a:ext cx="1185840" cy="595080"/>
              <a:chOff x="2846520" y="2365200"/>
              <a:chExt cx="1185840" cy="595080"/>
            </a:xfrm>
          </p:grpSpPr>
          <p:sp>
            <p:nvSpPr>
              <p:cNvPr id="594" name=""/>
              <p:cNvSpPr/>
              <p:nvPr/>
            </p:nvSpPr>
            <p:spPr>
              <a:xfrm>
                <a:off x="2846520" y="2365200"/>
                <a:ext cx="1185840" cy="595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3224520" y="2450160"/>
                <a:ext cx="3801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θ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2846520" y="3046320"/>
              <a:ext cx="1185840" cy="595080"/>
              <a:chOff x="2846520" y="3046320"/>
              <a:chExt cx="1185840" cy="595080"/>
            </a:xfrm>
          </p:grpSpPr>
          <p:sp>
            <p:nvSpPr>
              <p:cNvPr id="597" name=""/>
              <p:cNvSpPr/>
              <p:nvPr/>
            </p:nvSpPr>
            <p:spPr>
              <a:xfrm>
                <a:off x="2846520" y="3046320"/>
                <a:ext cx="1185840" cy="595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224520" y="3131280"/>
                <a:ext cx="3801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θ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2846520" y="4067280"/>
              <a:ext cx="1185840" cy="593280"/>
              <a:chOff x="2846520" y="4067280"/>
              <a:chExt cx="1185840" cy="593280"/>
            </a:xfrm>
          </p:grpSpPr>
          <p:sp>
            <p:nvSpPr>
              <p:cNvPr id="600" name=""/>
              <p:cNvSpPr/>
              <p:nvPr/>
            </p:nvSpPr>
            <p:spPr>
              <a:xfrm>
                <a:off x="2846520" y="4067280"/>
                <a:ext cx="1185840" cy="593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224520" y="4151880"/>
                <a:ext cx="3801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θ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1957320" y="3386160"/>
              <a:ext cx="88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2401920" y="2706480"/>
              <a:ext cx="0" cy="67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401920" y="3386160"/>
              <a:ext cx="0" cy="10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401920" y="270684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401920" y="440676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665720" y="3130560"/>
              <a:ext cx="343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8" name=""/>
            <p:cNvGrpSpPr/>
            <p:nvPr/>
          </p:nvGrpSpPr>
          <p:grpSpPr>
            <a:xfrm>
              <a:off x="4760640" y="2722680"/>
              <a:ext cx="2604960" cy="1258560"/>
              <a:chOff x="4760640" y="2722680"/>
              <a:chExt cx="2604960" cy="1258560"/>
            </a:xfrm>
          </p:grpSpPr>
          <p:sp>
            <p:nvSpPr>
              <p:cNvPr id="609" name=""/>
              <p:cNvSpPr/>
              <p:nvPr/>
            </p:nvSpPr>
            <p:spPr>
              <a:xfrm>
                <a:off x="4772880" y="2791440"/>
                <a:ext cx="1110960" cy="1189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4760640" y="2722680"/>
                <a:ext cx="1194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rbitr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884200" y="3386160"/>
                <a:ext cx="1481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185160" y="2961360"/>
                <a:ext cx="3438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3" name=""/>
            <p:cNvSpPr/>
            <p:nvPr/>
          </p:nvSpPr>
          <p:spPr>
            <a:xfrm>
              <a:off x="6686640" y="1994040"/>
              <a:ext cx="247680" cy="3028680"/>
            </a:xfrm>
            <a:custGeom>
              <a:avLst/>
              <a:gdLst/>
              <a:ahLst/>
              <a:rect l="l" t="t" r="r" b="b"/>
              <a:pathLst>
                <a:path w="160" h="1536">
                  <a:moveTo>
                    <a:pt x="104" y="0"/>
                  </a:moveTo>
                  <a:cubicBezTo>
                    <a:pt x="56" y="48"/>
                    <a:pt x="8" y="96"/>
                    <a:pt x="8" y="144"/>
                  </a:cubicBezTo>
                  <a:cubicBezTo>
                    <a:pt x="8" y="192"/>
                    <a:pt x="104" y="224"/>
                    <a:pt x="104" y="288"/>
                  </a:cubicBezTo>
                  <a:cubicBezTo>
                    <a:pt x="104" y="352"/>
                    <a:pt x="0" y="464"/>
                    <a:pt x="8" y="528"/>
                  </a:cubicBezTo>
                  <a:cubicBezTo>
                    <a:pt x="16" y="592"/>
                    <a:pt x="144" y="616"/>
                    <a:pt x="152" y="672"/>
                  </a:cubicBezTo>
                  <a:cubicBezTo>
                    <a:pt x="160" y="728"/>
                    <a:pt x="56" y="792"/>
                    <a:pt x="56" y="864"/>
                  </a:cubicBezTo>
                  <a:cubicBezTo>
                    <a:pt x="56" y="936"/>
                    <a:pt x="160" y="1032"/>
                    <a:pt x="152" y="1104"/>
                  </a:cubicBezTo>
                  <a:cubicBezTo>
                    <a:pt x="144" y="1176"/>
                    <a:pt x="16" y="1224"/>
                    <a:pt x="8" y="1296"/>
                  </a:cubicBezTo>
                  <a:cubicBezTo>
                    <a:pt x="0" y="1368"/>
                    <a:pt x="88" y="1496"/>
                    <a:pt x="104" y="1536"/>
                  </a:cubicBezTo>
                </a:path>
              </a:pathLst>
            </a:custGeom>
            <a:noFill/>
            <a:ln w="9360">
              <a:solidFill>
                <a:srgbClr val="ca5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982920" y="1897200"/>
              <a:ext cx="72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a5200"/>
                  </a:solidFill>
                  <a:latin typeface="Arial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216080" y="2016000"/>
              <a:ext cx="247680" cy="2719440"/>
            </a:xfrm>
            <a:custGeom>
              <a:avLst/>
              <a:gdLst/>
              <a:ahLst/>
              <a:rect l="l" t="t" r="r" b="b"/>
              <a:pathLst>
                <a:path w="160" h="1536">
                  <a:moveTo>
                    <a:pt x="104" y="0"/>
                  </a:moveTo>
                  <a:cubicBezTo>
                    <a:pt x="56" y="48"/>
                    <a:pt x="8" y="96"/>
                    <a:pt x="8" y="144"/>
                  </a:cubicBezTo>
                  <a:cubicBezTo>
                    <a:pt x="8" y="192"/>
                    <a:pt x="104" y="224"/>
                    <a:pt x="104" y="288"/>
                  </a:cubicBezTo>
                  <a:cubicBezTo>
                    <a:pt x="104" y="352"/>
                    <a:pt x="0" y="464"/>
                    <a:pt x="8" y="528"/>
                  </a:cubicBezTo>
                  <a:cubicBezTo>
                    <a:pt x="16" y="592"/>
                    <a:pt x="144" y="616"/>
                    <a:pt x="152" y="672"/>
                  </a:cubicBezTo>
                  <a:cubicBezTo>
                    <a:pt x="160" y="728"/>
                    <a:pt x="56" y="792"/>
                    <a:pt x="56" y="864"/>
                  </a:cubicBezTo>
                  <a:cubicBezTo>
                    <a:pt x="56" y="936"/>
                    <a:pt x="160" y="1032"/>
                    <a:pt x="152" y="1104"/>
                  </a:cubicBezTo>
                  <a:cubicBezTo>
                    <a:pt x="144" y="1176"/>
                    <a:pt x="16" y="1224"/>
                    <a:pt x="8" y="1296"/>
                  </a:cubicBezTo>
                  <a:cubicBezTo>
                    <a:pt x="0" y="1368"/>
                    <a:pt x="88" y="1496"/>
                    <a:pt x="104" y="1536"/>
                  </a:cubicBezTo>
                </a:path>
              </a:pathLst>
            </a:custGeom>
            <a:noFill/>
            <a:ln w="9360">
              <a:solidFill>
                <a:srgbClr val="ca5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114560" y="3375000"/>
              <a:ext cx="59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3420720" y="2100240"/>
              <a:ext cx="350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421080" y="210024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588480" y="1716120"/>
              <a:ext cx="330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3457440" y="4873680"/>
              <a:ext cx="3500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3448080" y="4672080"/>
              <a:ext cx="0" cy="20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209120" y="4478400"/>
              <a:ext cx="330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032360" y="3314880"/>
              <a:ext cx="74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044960" y="436392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V="1">
              <a:off x="4440240" y="3656160"/>
              <a:ext cx="0" cy="70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440240" y="3656160"/>
              <a:ext cx="3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044960" y="2664000"/>
              <a:ext cx="38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427640" y="2664000"/>
              <a:ext cx="0" cy="33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427640" y="3003480"/>
              <a:ext cx="34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"/>
          <p:cNvSpPr/>
          <p:nvPr/>
        </p:nvSpPr>
        <p:spPr>
          <a:xfrm>
            <a:off x="1627920" y="5386320"/>
            <a:ext cx="53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distribute subtasks within each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ina Varshavskaya, Leslie Pack Kaelbling, Daniela Ru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DC95-527E-4955-8982-DEDEE95F8B5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Augus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31640" y="274320"/>
            <a:ext cx="852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5f5f"/>
                </a:solidFill>
                <a:latin typeface="Arial"/>
              </a:rPr>
              <a:t>Current work: locomotion in truss robots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538280" y="4675320"/>
            <a:ext cx="283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Shady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5f5f5f"/>
                </a:solidFill>
                <a:latin typeface="Arial"/>
              </a:rPr>
              <a:t>Vona et al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847800" y="469116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951440" y="1341360"/>
            <a:ext cx="4030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MultiShadySim </a:t>
            </a:r>
            <a:r>
              <a:rPr b="0" i="1" lang="en-US" sz="1600" spc="-1" strike="noStrike">
                <a:solidFill>
                  <a:srgbClr val="5f5f5f"/>
                </a:solidFill>
                <a:latin typeface="Arial"/>
              </a:rPr>
              <a:t>Detweiler et al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1"/>
          <a:stretch/>
        </p:blipFill>
        <p:spPr>
          <a:xfrm>
            <a:off x="431640" y="1658880"/>
            <a:ext cx="4673880" cy="3116160"/>
          </a:xfrm>
          <a:prstGeom prst="rect">
            <a:avLst/>
          </a:prstGeom>
          <a:ln w="0">
            <a:noFill/>
          </a:ln>
        </p:spPr>
      </p:pic>
      <p:pic>
        <p:nvPicPr>
          <p:cNvPr id="636" name="" descr=""/>
          <p:cNvPicPr/>
          <p:nvPr/>
        </p:nvPicPr>
        <p:blipFill>
          <a:blip r:embed="rId2"/>
          <a:stretch/>
        </p:blipFill>
        <p:spPr>
          <a:xfrm>
            <a:off x="4108320" y="1658880"/>
            <a:ext cx="4515120" cy="447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ina Varshavskaya, Leslie Pack Kaelbling, Daniela Ru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8AFB-1164-4673-BF83-876F86243B5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Augus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8" dur="145109" fill="hold"/>
                                        <p:tgtEl>
                                          <p:spTgt spid="6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9" nodeType="with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0" dur="15667" fill="hold"/>
                                        <p:tgtEl>
                                          <p:spTgt spid="6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3222720" y="3000240"/>
            <a:ext cx="22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2162160" y="5510160"/>
            <a:ext cx="432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project sponsored by Boeing Corp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ina Varshavskaya, Leslie Pack Kaelbling, Daniela Ru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D7ED-7F8F-45C2-8187-1A3622D7927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Augus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712960" y="2013120"/>
            <a:ext cx="3754440" cy="28159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5f5f"/>
                </a:solidFill>
                <a:latin typeface="Arial"/>
              </a:rPr>
              <a:t>RL for self-reconfigurable robots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65080" y="1371600"/>
            <a:ext cx="552420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1. automated controller design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352600" y="2133720"/>
            <a:ext cx="4496040" cy="1787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333520" y="3962520"/>
            <a:ext cx="289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"/>
              </a:rPr>
              <a:t>Butler et al 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4927680"/>
            <a:ext cx="814068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TRAN-II controller: genetic algorithms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amimura et al 200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lecube controller: genetic algorithms (M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ytilinaios et al 200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lecube primitives and controller: genetic programming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ubica and Rieffel 200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ina Varshavskaya, Leslie Pack Kaelbling, Daniela Ru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20AF-DB30-40F3-8C2D-80E2A760A04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Augus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5f5f"/>
                </a:solidFill>
                <a:latin typeface="Arial"/>
              </a:rPr>
              <a:t>RL for self-reconfigurable robots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03320" y="2502000"/>
            <a:ext cx="441972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2. online adaptation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03320" y="4863960"/>
            <a:ext cx="3352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oving from 1. to 2.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61480" y="3151080"/>
            <a:ext cx="674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rom the point of view of each robot or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67240" y="3760920"/>
            <a:ext cx="49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limited knowledge and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03320" y="1409400"/>
            <a:ext cx="552456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1. automated controller design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ina Varshavskaya, Leslie Pack Kaelbling, Daniela Ru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77BE-92C6-47C3-9E57-1D23BC29E41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Augus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5f5f"/>
                </a:solidFill>
                <a:latin typeface="Arial"/>
              </a:rPr>
              <a:t>Task: locomotion in modular robots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1240" y="4898520"/>
            <a:ext cx="3429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Molecule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5f5f5f"/>
                </a:solidFill>
                <a:latin typeface="Arial"/>
              </a:rPr>
              <a:t>Kotay &amp; Rus 2005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28840" y="211284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77920" y="1500120"/>
            <a:ext cx="371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lattice-based rob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51360" y="4400640"/>
            <a:ext cx="40384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simulated generalized lattice-based robo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792680" y="4164120"/>
            <a:ext cx="3646440" cy="0"/>
          </a:xfrm>
          <a:prstGeom prst="line">
            <a:avLst/>
          </a:prstGeom>
          <a:ln w="19080">
            <a:solidFill>
              <a:srgbClr val="ca5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58720" y="2409840"/>
            <a:ext cx="3873600" cy="25812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651200" y="3319560"/>
            <a:ext cx="4286520" cy="82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ina Varshavskaya, Leslie Pack Kaelbling, Daniela Ru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63EA-ECD2-4054-A7A4-67E295D21E5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Augus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99162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55505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5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0" dur="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86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5f5f"/>
                </a:solidFill>
                <a:latin typeface="Arial"/>
              </a:rPr>
              <a:t>From each agent’s point of view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32200" y="2016000"/>
            <a:ext cx="412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local observation: Moore neighborh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843200" y="3200400"/>
            <a:ext cx="3581280" cy="946800"/>
            <a:chOff x="1843200" y="3200400"/>
            <a:chExt cx="3581280" cy="946800"/>
          </a:xfrm>
        </p:grpSpPr>
        <p:sp>
          <p:nvSpPr>
            <p:cNvPr id="81" name=""/>
            <p:cNvSpPr/>
            <p:nvPr/>
          </p:nvSpPr>
          <p:spPr>
            <a:xfrm>
              <a:off x="3292200" y="38098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>
              <a:off x="2205000" y="3200400"/>
              <a:ext cx="177156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1843200" y="3886200"/>
              <a:ext cx="358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030400" y="4389480"/>
            <a:ext cx="771480" cy="717480"/>
            <a:chOff x="2030400" y="4389480"/>
            <a:chExt cx="771480" cy="717480"/>
          </a:xfrm>
        </p:grpSpPr>
        <p:sp>
          <p:nvSpPr>
            <p:cNvPr id="85" name=""/>
            <p:cNvSpPr/>
            <p:nvPr/>
          </p:nvSpPr>
          <p:spPr>
            <a:xfrm>
              <a:off x="2529000" y="4392720"/>
              <a:ext cx="272880" cy="704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030400" y="4389480"/>
              <a:ext cx="765360" cy="717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73400" y="4398840"/>
              <a:ext cx="0" cy="69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529000" y="4402080"/>
              <a:ext cx="0" cy="69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030400" y="464040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030400" y="485928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273400" y="4640400"/>
              <a:ext cx="252360" cy="215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 flipH="1">
            <a:off x="2028960" y="3614760"/>
            <a:ext cx="528480" cy="77148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625840" y="3699000"/>
            <a:ext cx="164880" cy="68256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27520" y="2394000"/>
            <a:ext cx="29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actions: 8 directions + N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31120" y="2820960"/>
            <a:ext cx="463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reward: Eastward displacement along x 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5094360" y="4289400"/>
            <a:ext cx="2306160" cy="1010520"/>
            <a:chOff x="5094360" y="4289400"/>
            <a:chExt cx="2306160" cy="1010520"/>
          </a:xfrm>
        </p:grpSpPr>
        <p:sp>
          <p:nvSpPr>
            <p:cNvPr id="97" name=""/>
            <p:cNvSpPr/>
            <p:nvPr/>
          </p:nvSpPr>
          <p:spPr>
            <a:xfrm>
              <a:off x="5094360" y="4373640"/>
              <a:ext cx="252360" cy="216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094360" y="4684680"/>
              <a:ext cx="260280" cy="222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094360" y="5002200"/>
              <a:ext cx="260280" cy="22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535720" y="428940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f5f5f"/>
                  </a:solidFill>
                  <a:latin typeface="Arial"/>
                </a:rPr>
                <a:t>- acting modu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520" y="4626000"/>
              <a:ext cx="182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f5f5f"/>
                  </a:solidFill>
                  <a:latin typeface="Arial"/>
                </a:rPr>
                <a:t>- neighbor pres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5720" y="4962600"/>
              <a:ext cx="1864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f5f5f"/>
                  </a:solidFill>
                  <a:latin typeface="Arial"/>
                </a:rPr>
                <a:t>- empty lattice cel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966600" y="5450040"/>
            <a:ext cx="722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assumptions:</a:t>
            </a: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 primitive “physics”, no disconnection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failed actions don’t execute, synchronous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29680" y="1406520"/>
            <a:ext cx="361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state: global configuration of rob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41720" y="142092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un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4939920" y="1625760"/>
            <a:ext cx="901800" cy="0"/>
          </a:xfrm>
          <a:prstGeom prst="line">
            <a:avLst/>
          </a:prstGeom>
          <a:ln w="255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ina Varshavskaya, Leslie Pack Kaelbling, Daniela Ru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8295-9643-4FD0-9874-C46E50FCF0A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Augus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5f5f"/>
                </a:solidFill>
                <a:latin typeface="Arial"/>
              </a:rPr>
              <a:t>Large modular sytem challenges 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92240" y="1849320"/>
            <a:ext cx="701028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artial observ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92240" y="3670200"/>
            <a:ext cx="70740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large observation-action sp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395440" y="4284720"/>
            <a:ext cx="576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5f5f5f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 observations without obstacles x 9 actions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5f5f5f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 observations with obstacles x 9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421000" y="2392200"/>
            <a:ext cx="57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cannot use Markov-assuming “nice” algorith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ina Varshavskaya, Leslie Pack Kaelbling, Daniela Ru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D314-97DB-427A-B3B7-ACC75537442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Augus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5f5f"/>
                </a:solidFill>
                <a:latin typeface="Arial"/>
              </a:rPr>
              <a:t>Partial observability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4360" y="2179800"/>
            <a:ext cx="7239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direct policy search using gradient ascent in policy space (GA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0520" y="2959200"/>
            <a:ext cx="141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808080"/>
                </a:solidFill>
                <a:latin typeface="Arial"/>
              </a:rPr>
              <a:t>Peshkin 2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01080" y="3772080"/>
            <a:ext cx="34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Value V(</a:t>
            </a:r>
            <a:r>
              <a:rPr b="0" lang="el-GR" sz="2400" spc="-1" strike="noStrike">
                <a:solidFill>
                  <a:srgbClr val="5f5f5f"/>
                </a:solidFill>
                <a:latin typeface="Arial"/>
                <a:ea typeface="Arial"/>
              </a:rPr>
              <a:t>θ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) of policy </a:t>
            </a:r>
            <a:r>
              <a:rPr b="0" lang="el-GR" sz="2400" spc="-1" strike="noStrike">
                <a:solidFill>
                  <a:srgbClr val="5f5f5f"/>
                </a:solidFill>
                <a:latin typeface="Arial"/>
                <a:ea typeface="Arial"/>
              </a:rPr>
              <a:t>π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  <a:ea typeface="Arial"/>
              </a:rPr>
              <a:t>(</a:t>
            </a:r>
            <a:r>
              <a:rPr b="0" lang="el-GR" sz="2400" spc="-1" strike="noStrike">
                <a:solidFill>
                  <a:srgbClr val="5f5f5f"/>
                </a:solidFill>
                <a:latin typeface="Arial"/>
                <a:ea typeface="Arial"/>
              </a:rPr>
              <a:t>θ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882000" y="3698640"/>
            <a:ext cx="3059640" cy="1947600"/>
            <a:chOff x="882000" y="3698640"/>
            <a:chExt cx="3059640" cy="1947600"/>
          </a:xfrm>
        </p:grpSpPr>
        <mc:AlternateContent>
          <mc:Choice xmlns:a14="http://schemas.microsoft.com/office/drawing/2010/main" Requires="a14">
            <p:sp>
              <p:nvSpPr>
                <p:cNvPr id="117" name=""/>
                <p:cNvSpPr txBox="1"/>
                <p:nvPr/>
              </p:nvSpPr>
              <p:spPr>
                <a:xfrm>
                  <a:off x="2536920" y="5391000"/>
                  <a:ext cx="576000" cy="255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  <m:r>
                        <m:t xml:space="preserve">(</m:t>
                      </m:r>
                      <m:r>
                        <m:t xml:space="preserve">o</m:t>
                      </m:r>
                      <m:r>
                        <m:t xml:space="preserve">,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8" name=""/>
            <p:cNvSpPr/>
            <p:nvPr/>
          </p:nvSpPr>
          <p:spPr>
            <a:xfrm>
              <a:off x="1601640" y="5283000"/>
              <a:ext cx="234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1744560" y="3698640"/>
              <a:ext cx="0" cy="172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852560" y="4087800"/>
              <a:ext cx="1981080" cy="916920"/>
            </a:xfrm>
            <a:custGeom>
              <a:avLst/>
              <a:gdLst/>
              <a:ahLst/>
              <a:rect l="l" t="t" r="r" b="b"/>
              <a:pathLst>
                <a:path w="1248" h="578">
                  <a:moveTo>
                    <a:pt x="0" y="412"/>
                  </a:moveTo>
                  <a:cubicBezTo>
                    <a:pt x="26" y="363"/>
                    <a:pt x="53" y="314"/>
                    <a:pt x="91" y="299"/>
                  </a:cubicBezTo>
                  <a:cubicBezTo>
                    <a:pt x="129" y="284"/>
                    <a:pt x="182" y="284"/>
                    <a:pt x="227" y="322"/>
                  </a:cubicBezTo>
                  <a:cubicBezTo>
                    <a:pt x="272" y="360"/>
                    <a:pt x="325" y="485"/>
                    <a:pt x="363" y="526"/>
                  </a:cubicBezTo>
                  <a:cubicBezTo>
                    <a:pt x="401" y="567"/>
                    <a:pt x="424" y="578"/>
                    <a:pt x="454" y="571"/>
                  </a:cubicBezTo>
                  <a:cubicBezTo>
                    <a:pt x="484" y="564"/>
                    <a:pt x="500" y="564"/>
                    <a:pt x="545" y="481"/>
                  </a:cubicBezTo>
                  <a:cubicBezTo>
                    <a:pt x="590" y="398"/>
                    <a:pt x="669" y="144"/>
                    <a:pt x="726" y="72"/>
                  </a:cubicBezTo>
                  <a:cubicBezTo>
                    <a:pt x="783" y="0"/>
                    <a:pt x="843" y="12"/>
                    <a:pt x="885" y="50"/>
                  </a:cubicBezTo>
                  <a:cubicBezTo>
                    <a:pt x="927" y="88"/>
                    <a:pt x="915" y="220"/>
                    <a:pt x="976" y="299"/>
                  </a:cubicBezTo>
                  <a:cubicBezTo>
                    <a:pt x="1037" y="378"/>
                    <a:pt x="1203" y="488"/>
                    <a:pt x="1248" y="52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681280" y="4778280"/>
              <a:ext cx="92160" cy="91800"/>
            </a:xfrm>
            <a:prstGeom prst="ellipse">
              <a:avLst/>
            </a:prstGeom>
            <a:solidFill>
              <a:srgbClr val="ca5200"/>
            </a:solidFill>
            <a:ln w="9360">
              <a:solidFill>
                <a:srgbClr val="ca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82000" y="3985920"/>
              <a:ext cx="95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alue of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3" name=""/>
                <p:cNvSpPr txBox="1"/>
                <p:nvPr/>
              </p:nvSpPr>
              <p:spPr>
                <a:xfrm>
                  <a:off x="1073160" y="4346280"/>
                  <a:ext cx="493560" cy="29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  <m:r>
                        <m:t xml:space="preserve">(</m:t>
                      </m:r>
                      <m:r>
                        <m:t xml:space="preserve">θ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4" name=""/>
            <p:cNvSpPr/>
            <p:nvPr/>
          </p:nvSpPr>
          <p:spPr>
            <a:xfrm flipV="1">
              <a:off x="2752560" y="4525560"/>
              <a:ext cx="108000" cy="286920"/>
            </a:xfrm>
            <a:prstGeom prst="line">
              <a:avLst/>
            </a:prstGeom>
            <a:ln w="25560">
              <a:solidFill>
                <a:srgbClr val="ca52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2692440" y="5403960"/>
            <a:ext cx="504720" cy="23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4360" y="1344600"/>
            <a:ext cx="86155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in a multi-agent partially observable Markov Decision Process (POMDP)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014800" y="4264200"/>
                <a:ext cx="237672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θ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R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264280" y="4903920"/>
                <a:ext cx="195552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γ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ina Varshavskaya, Leslie Pack Kaelbling, Daniela Ru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F5A8-76AE-4E5D-852B-CCDBF8C9953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Augus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5f5f"/>
                </a:solidFill>
                <a:latin typeface="Arial"/>
              </a:rPr>
              <a:t>GAPS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3800" y="1573200"/>
            <a:ext cx="370368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each agent execu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a parameterized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210200" y="1506600"/>
                <a:ext cx="388620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θ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  <m:r>
                              <m:t xml:space="preserve">'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θ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3822840" y="3294000"/>
            <a:ext cx="52927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t time 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serve 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urier New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ccording to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xecute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urier New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ceive reward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urier New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keep an execution t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t end of episo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parameters 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581040" y="3171960"/>
            <a:ext cx="3084480" cy="2428920"/>
            <a:chOff x="581040" y="3171960"/>
            <a:chExt cx="3084480" cy="2428920"/>
          </a:xfrm>
        </p:grpSpPr>
        <p:pic>
          <p:nvPicPr>
            <p:cNvPr id="134" name="" descr=""/>
            <p:cNvPicPr/>
            <p:nvPr/>
          </p:nvPicPr>
          <p:blipFill>
            <a:blip r:embed="rId1"/>
            <a:stretch/>
          </p:blipFill>
          <p:spPr>
            <a:xfrm>
              <a:off x="2286000" y="3235320"/>
              <a:ext cx="1379520" cy="2298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5" name=""/>
            <p:cNvGrpSpPr/>
            <p:nvPr/>
          </p:nvGrpSpPr>
          <p:grpSpPr>
            <a:xfrm>
              <a:off x="581040" y="3191040"/>
              <a:ext cx="844560" cy="2409840"/>
              <a:chOff x="581040" y="3191040"/>
              <a:chExt cx="844560" cy="2409840"/>
            </a:xfrm>
          </p:grpSpPr>
          <p:sp>
            <p:nvSpPr>
              <p:cNvPr id="136" name=""/>
              <p:cNvSpPr/>
              <p:nvPr/>
            </p:nvSpPr>
            <p:spPr>
              <a:xfrm>
                <a:off x="1152360" y="3191040"/>
                <a:ext cx="273240" cy="2409840"/>
              </a:xfrm>
              <a:custGeom>
                <a:avLst/>
                <a:gdLst/>
                <a:ahLst/>
                <a:rect l="l" t="t" r="r" b="b"/>
                <a:pathLst>
                  <a:path w="262" h="1572">
                    <a:moveTo>
                      <a:pt x="252" y="0"/>
                    </a:moveTo>
                    <a:cubicBezTo>
                      <a:pt x="126" y="104"/>
                      <a:pt x="0" y="209"/>
                      <a:pt x="0" y="306"/>
                    </a:cubicBezTo>
                    <a:cubicBezTo>
                      <a:pt x="0" y="403"/>
                      <a:pt x="242" y="477"/>
                      <a:pt x="252" y="582"/>
                    </a:cubicBezTo>
                    <a:cubicBezTo>
                      <a:pt x="262" y="687"/>
                      <a:pt x="61" y="819"/>
                      <a:pt x="60" y="936"/>
                    </a:cubicBezTo>
                    <a:cubicBezTo>
                      <a:pt x="59" y="1053"/>
                      <a:pt x="245" y="1178"/>
                      <a:pt x="246" y="1284"/>
                    </a:cubicBezTo>
                    <a:cubicBezTo>
                      <a:pt x="247" y="1390"/>
                      <a:pt x="156" y="1481"/>
                      <a:pt x="66" y="1572"/>
                    </a:cubicBezTo>
                  </a:path>
                </a:pathLst>
              </a:custGeom>
              <a:noFill/>
              <a:ln w="19080">
                <a:solidFill>
                  <a:srgbClr val="ca52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V="1">
                <a:off x="676440" y="3695400"/>
                <a:ext cx="475920" cy="361800"/>
              </a:xfrm>
              <a:prstGeom prst="line">
                <a:avLst/>
              </a:prstGeom>
              <a:ln w="9360">
                <a:solidFill>
                  <a:srgbClr val="ca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V="1">
                <a:off x="666720" y="3886200"/>
                <a:ext cx="619200" cy="457200"/>
              </a:xfrm>
              <a:prstGeom prst="line">
                <a:avLst/>
              </a:prstGeom>
              <a:ln w="9360">
                <a:solidFill>
                  <a:srgbClr val="ca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V="1">
                <a:off x="581040" y="4057200"/>
                <a:ext cx="828720" cy="638280"/>
              </a:xfrm>
              <a:prstGeom prst="line">
                <a:avLst/>
              </a:prstGeom>
              <a:ln w="9360">
                <a:solidFill>
                  <a:srgbClr val="ca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V="1">
                <a:off x="666720" y="4476960"/>
                <a:ext cx="581040" cy="428400"/>
              </a:xfrm>
              <a:prstGeom prst="line">
                <a:avLst/>
              </a:prstGeom>
              <a:ln w="9360">
                <a:solidFill>
                  <a:srgbClr val="ca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V="1">
                <a:off x="657360" y="4752720"/>
                <a:ext cx="581040" cy="428760"/>
              </a:xfrm>
              <a:prstGeom prst="line">
                <a:avLst/>
              </a:prstGeom>
              <a:ln w="9360">
                <a:solidFill>
                  <a:srgbClr val="ca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714240" y="4981320"/>
                <a:ext cx="638280" cy="476280"/>
              </a:xfrm>
              <a:prstGeom prst="line">
                <a:avLst/>
              </a:prstGeom>
              <a:ln w="9360">
                <a:solidFill>
                  <a:srgbClr val="ca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V="1">
                <a:off x="685800" y="3333960"/>
                <a:ext cx="619200" cy="457200"/>
              </a:xfrm>
              <a:prstGeom prst="line">
                <a:avLst/>
              </a:prstGeom>
              <a:ln w="9360">
                <a:solidFill>
                  <a:srgbClr val="ca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1285920" y="3495600"/>
              <a:ext cx="133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1457280" y="4143600"/>
              <a:ext cx="82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476360" y="5124600"/>
              <a:ext cx="105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753920" y="3171960"/>
              <a:ext cx="397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734840" y="3810240"/>
              <a:ext cx="397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763640" y="4781520"/>
              <a:ext cx="397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762280" y="4191120"/>
              <a:ext cx="390600" cy="352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354720" y="2765520"/>
            <a:ext cx="1817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5f5f5f"/>
                </a:solidFill>
                <a:latin typeface="Arial"/>
                <a:ea typeface="Arial"/>
              </a:rPr>
              <a:t>β</a:t>
            </a:r>
            <a:r>
              <a:rPr b="0" lang="en-US" sz="1600" spc="-1" strike="noStrike" baseline="-25000">
                <a:solidFill>
                  <a:srgbClr val="5f5f5f"/>
                </a:solidFill>
                <a:latin typeface="Arial"/>
                <a:ea typeface="Arial"/>
              </a:rPr>
              <a:t>t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  <a:ea typeface="Arial"/>
              </a:rPr>
              <a:t> is “temperature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ina Varshavskaya, Leslie Pack Kaelbling, Daniela Ru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ABA6-BAD3-406A-BA9A-A36145AA1EE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Augus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ffice 2004 Test Drive User</cp:lastModifiedBy>
  <dcterms:modified xsi:type="dcterms:W3CDTF">2006-08-21T19:20:32Z</dcterms:modified>
  <cp:revision>1</cp:revision>
  <dc:subject/>
  <dc:title>On Scalability Issues in Reinforcement Learning for Modular Robots</dc:title>
</cp:coreProperties>
</file>