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D4F-9772-4CC5-9218-E09854CDC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4FE-295E-45CB-AF7C-E6E8E272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5EF-4213-495A-ADF7-B385CC58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FF8-C1BC-45C8-A549-C520CA1A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D87-16AF-4FF9-8DBB-90109FF3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2EB-73C0-412C-B2B9-EE6B79FA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CC4-B697-4C05-B775-C08932C6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A7E-D077-4146-9F3F-9CF90F67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8A1-583D-434C-B965-1CADB5E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182-5880-4EBA-A94C-01049F69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4E9-1B95-4E5E-A027-FA539CC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679-F27B-41A4-ABBC-379B469C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D09-4E5E-48E1-AFAD-4273D85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81680" y="624816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492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24816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14C2-5F2D-47CD-9D7F-89E63B9E234D}" type="slidenum">
              <a:rPr b="0" lang="en-US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856120"/>
            <a:ext cx="1905120" cy="1001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925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On Scalability Issues in Reinforcement Learning for Modular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4267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a5200"/>
                </a:solidFill>
                <a:latin typeface="Arial"/>
              </a:rPr>
              <a:t>Paulina Varshavskaya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, Leslie Pack Kaelbling and Daniela R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Large modular sytem challenges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54080" y="1697040"/>
            <a:ext cx="7010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rtial observ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92240" y="2489040"/>
            <a:ext cx="707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rge observation-action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95440" y="3103560"/>
            <a:ext cx="57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servations without obstacles             2,304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bservations with obstacles                59,049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805040" y="3873600"/>
            <a:ext cx="3581280" cy="946800"/>
            <a:chOff x="1805040" y="3873600"/>
            <a:chExt cx="3581280" cy="946800"/>
          </a:xfrm>
        </p:grpSpPr>
        <p:sp>
          <p:nvSpPr>
            <p:cNvPr id="157" name=""/>
            <p:cNvSpPr/>
            <p:nvPr/>
          </p:nvSpPr>
          <p:spPr>
            <a:xfrm>
              <a:off x="3254040" y="4483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166840" y="3873600"/>
              <a:ext cx="17715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805040" y="45594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992240" y="5062680"/>
            <a:ext cx="771480" cy="717480"/>
            <a:chOff x="1992240" y="5062680"/>
            <a:chExt cx="771480" cy="717480"/>
          </a:xfrm>
        </p:grpSpPr>
        <p:sp>
          <p:nvSpPr>
            <p:cNvPr id="161" name=""/>
            <p:cNvSpPr/>
            <p:nvPr/>
          </p:nvSpPr>
          <p:spPr>
            <a:xfrm>
              <a:off x="2490840" y="5065920"/>
              <a:ext cx="27288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2240" y="5062680"/>
              <a:ext cx="765360" cy="71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35240" y="507204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90840" y="50752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92240" y="53136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2240" y="55324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35240" y="531360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1990800" y="4287960"/>
            <a:ext cx="528480" cy="7714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87680" y="4371840"/>
            <a:ext cx="164880" cy="68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056200" y="4962600"/>
            <a:ext cx="2306160" cy="1010160"/>
            <a:chOff x="5056200" y="4962600"/>
            <a:chExt cx="2306160" cy="1010160"/>
          </a:xfrm>
        </p:grpSpPr>
        <p:sp>
          <p:nvSpPr>
            <p:cNvPr id="171" name=""/>
            <p:cNvSpPr/>
            <p:nvPr/>
          </p:nvSpPr>
          <p:spPr>
            <a:xfrm>
              <a:off x="5056200" y="504648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56200" y="5357520"/>
              <a:ext cx="260280" cy="22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56200" y="5675040"/>
              <a:ext cx="260280" cy="22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97560" y="496260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acting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9360" y="529884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neighbor 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97560" y="563544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empty lattice ce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BC8-31C5-43F9-AD37-8528CABF45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Specific solution: incremental learning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70080" y="3228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25600" y="32306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70080" y="3381480"/>
            <a:ext cx="15408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98680" y="26449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92320" y="26449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2243160" y="264312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85912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2171520" y="3012840"/>
            <a:ext cx="15372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2324160" y="3009960"/>
            <a:ext cx="154080" cy="15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6320" y="2540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6320" y="2830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6320" y="3198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46400" y="397656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2093760" y="397836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2400120" y="3978360"/>
            <a:ext cx="15372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2247840" y="382248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7840" y="5308560"/>
            <a:ext cx="15084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2093760" y="5460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2247840" y="5460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2398680" y="54594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2322360" y="4361040"/>
            <a:ext cx="154080" cy="15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71880" y="4205160"/>
            <a:ext cx="15372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420696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71880" y="4359240"/>
            <a:ext cx="15372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46400" y="471636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2093760" y="471780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2400120" y="471780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2400120" y="456228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46400" y="5089680"/>
            <a:ext cx="15408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2093760" y="49356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2400120" y="508932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2244600" y="49356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6320" y="3790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6320" y="4178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6320" y="4576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6320" y="4903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6320" y="5281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7560" y="1784520"/>
            <a:ext cx="15372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55760" y="19368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0800000">
            <a:off x="2170080" y="217008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2322360" y="21715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6320" y="175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76320" y="2063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198108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88200" y="290988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8200" y="435780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91040" y="1335240"/>
            <a:ext cx="18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possible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99720" y="1335240"/>
            <a:ext cx="42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x 9 possible actions     = total number of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65520" y="19447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65520" y="291636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65520" y="45640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21320" y="587844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9+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8200" y="5715000"/>
            <a:ext cx="9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,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567480" y="3336840"/>
            <a:ext cx="2241360" cy="885240"/>
            <a:chOff x="6567480" y="3336840"/>
            <a:chExt cx="2241360" cy="885240"/>
          </a:xfrm>
        </p:grpSpPr>
        <p:sp>
          <p:nvSpPr>
            <p:cNvPr id="232" name=""/>
            <p:cNvSpPr/>
            <p:nvPr/>
          </p:nvSpPr>
          <p:spPr>
            <a:xfrm>
              <a:off x="6567480" y="3405240"/>
              <a:ext cx="214200" cy="17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67480" y="3659040"/>
              <a:ext cx="22212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44040" y="333684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acting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45480" y="361152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neighbor 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44040" y="388476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empty lattice ce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FCA-0C8D-4E07-A82F-ED98EA2DF6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71920" y="3340080"/>
            <a:ext cx="4381560" cy="29494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Incremental GAPS (IGAPS) performanc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320" y="5305320"/>
            <a:ext cx="24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Varshavskaya et al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76120" y="1673280"/>
            <a:ext cx="4324320" cy="2936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57640" y="134460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ean convergence times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6160" y="297036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ean average reward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026-5513-49E6-B06F-2DE4B47D1F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 specific solu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7160" y="1600200"/>
            <a:ext cx="7480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dditive nature of modular robo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7520" y="2959200"/>
            <a:ext cx="7491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nclear applicability to other tasks an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17520" y="4527720"/>
            <a:ext cx="7480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ster RL but not fast enough for online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376-4DA8-4B3A-84E4-C0211CAB35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Desirable general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70080" y="3228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25600" y="32306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70080" y="3381480"/>
            <a:ext cx="15408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98680" y="26449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92320" y="26449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0800000">
            <a:off x="2243160" y="264312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70080" y="285912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0800000">
            <a:off x="2171520" y="3012840"/>
            <a:ext cx="15372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2324160" y="3009960"/>
            <a:ext cx="154080" cy="15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6320" y="2540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6320" y="2830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6320" y="3198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46400" y="397656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2093760" y="397836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2400120" y="3978360"/>
            <a:ext cx="15372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2247840" y="382248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47840" y="5308560"/>
            <a:ext cx="15084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2093760" y="5460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0800000">
            <a:off x="2247840" y="546084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2398680" y="54594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2322360" y="4361040"/>
            <a:ext cx="154080" cy="15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71880" y="4205160"/>
            <a:ext cx="15372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24160" y="420696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1880" y="4359240"/>
            <a:ext cx="15372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46400" y="471636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2093760" y="471780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2400120" y="471780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2400120" y="456228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46400" y="5089680"/>
            <a:ext cx="15408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0800000">
            <a:off x="2093760" y="49356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2400120" y="5089320"/>
            <a:ext cx="15372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2244600" y="49356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76320" y="3790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76320" y="4178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6320" y="45766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6320" y="4903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6320" y="52815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57560" y="1784520"/>
            <a:ext cx="153720" cy="153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55760" y="1936800"/>
            <a:ext cx="154080" cy="15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170080" y="2170080"/>
            <a:ext cx="154080" cy="154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2322360" y="2171520"/>
            <a:ext cx="154080" cy="15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76320" y="1754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76320" y="2063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91040" y="1335240"/>
            <a:ext cx="18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possible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83480" y="1335240"/>
            <a:ext cx="23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total number of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65520" y="19447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65520" y="291636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65520" y="45640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4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21320" y="587844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9+ 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044960" y="1219320"/>
            <a:ext cx="1667160" cy="4840200"/>
            <a:chOff x="4044960" y="1219320"/>
            <a:chExt cx="1667160" cy="4840200"/>
          </a:xfrm>
        </p:grpSpPr>
        <p:sp>
          <p:nvSpPr>
            <p:cNvPr id="298" name=""/>
            <p:cNvSpPr/>
            <p:nvPr/>
          </p:nvSpPr>
          <p:spPr>
            <a:xfrm>
              <a:off x="4044960" y="12193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9240" y="180036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small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09240" y="271476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small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9240" y="438804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small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9240" y="569124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small </a:t>
              </a:r>
              <a:r>
                <a:rPr b="0" i="1" lang="en-US" sz="1800" spc="-1" strike="noStrike">
                  <a:solidFill>
                    <a:srgbClr val="0099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67480" y="3336840"/>
            <a:ext cx="2241360" cy="885240"/>
            <a:chOff x="6567480" y="3336840"/>
            <a:chExt cx="2241360" cy="885240"/>
          </a:xfrm>
        </p:grpSpPr>
        <p:sp>
          <p:nvSpPr>
            <p:cNvPr id="304" name=""/>
            <p:cNvSpPr/>
            <p:nvPr/>
          </p:nvSpPr>
          <p:spPr>
            <a:xfrm>
              <a:off x="6567480" y="3405240"/>
              <a:ext cx="214200" cy="176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67480" y="3659040"/>
              <a:ext cx="22212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44040" y="333684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acting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5480" y="361152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neighbor 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44040" y="388476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empty lattice ce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D0D-897F-4C79-99CB-F8429E032D2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284800" y="1600200"/>
            <a:ext cx="3833640" cy="2077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43120" y="1630440"/>
            <a:ext cx="3752640" cy="2033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893880" y="3770280"/>
            <a:ext cx="3609720" cy="19558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376960" y="3770280"/>
            <a:ext cx="3652920" cy="1978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25520" y="3594240"/>
            <a:ext cx="9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02320" y="3568680"/>
            <a:ext cx="9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0800" y="348300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346248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pper left corner full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=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97480" y="344808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54000" y="342756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pper right corner empty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=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01680" y="5654520"/>
            <a:ext cx="9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21240" y="5692680"/>
            <a:ext cx="91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66960" y="554364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35360" y="552276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empty row in front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=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6760" y="557208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74360" y="5551560"/>
            <a:ext cx="25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upper left corner empty &amp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=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9200" y="2840040"/>
            <a:ext cx="765360" cy="717480"/>
            <a:chOff x="349200" y="2840040"/>
            <a:chExt cx="765360" cy="717480"/>
          </a:xfrm>
        </p:grpSpPr>
        <p:sp>
          <p:nvSpPr>
            <p:cNvPr id="327" name=""/>
            <p:cNvSpPr/>
            <p:nvPr/>
          </p:nvSpPr>
          <p:spPr>
            <a:xfrm>
              <a:off x="349200" y="2840040"/>
              <a:ext cx="765360" cy="717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2440" y="2842920"/>
              <a:ext cx="488880" cy="2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2440" y="3090600"/>
              <a:ext cx="247680" cy="219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2200" y="28494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7800" y="28526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9200" y="30906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9200" y="33098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2200" y="309060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834080" y="2809800"/>
            <a:ext cx="765000" cy="720720"/>
            <a:chOff x="4834080" y="2809800"/>
            <a:chExt cx="765000" cy="720720"/>
          </a:xfrm>
        </p:grpSpPr>
        <p:sp>
          <p:nvSpPr>
            <p:cNvPr id="336" name=""/>
            <p:cNvSpPr/>
            <p:nvPr/>
          </p:nvSpPr>
          <p:spPr>
            <a:xfrm>
              <a:off x="4834080" y="2813040"/>
              <a:ext cx="765000" cy="717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067360" y="2809800"/>
              <a:ext cx="529920" cy="477720"/>
              <a:chOff x="5067360" y="2809800"/>
              <a:chExt cx="529920" cy="477720"/>
            </a:xfrm>
          </p:grpSpPr>
          <p:sp>
            <p:nvSpPr>
              <p:cNvPr id="338" name=""/>
              <p:cNvSpPr/>
              <p:nvPr/>
            </p:nvSpPr>
            <p:spPr>
              <a:xfrm rot="5400000">
                <a:off x="5223240" y="2913480"/>
                <a:ext cx="477720" cy="27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5400000">
                <a:off x="5077800" y="2799000"/>
                <a:ext cx="241920" cy="26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5077080" y="28224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2680" y="28256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34080" y="30636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34080" y="32828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7080" y="306360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04640" y="4902120"/>
            <a:ext cx="771480" cy="717480"/>
            <a:chOff x="404640" y="4902120"/>
            <a:chExt cx="771480" cy="717480"/>
          </a:xfrm>
        </p:grpSpPr>
        <p:sp>
          <p:nvSpPr>
            <p:cNvPr id="346" name=""/>
            <p:cNvSpPr/>
            <p:nvPr/>
          </p:nvSpPr>
          <p:spPr>
            <a:xfrm>
              <a:off x="404640" y="4902120"/>
              <a:ext cx="765360" cy="717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3240" y="4905360"/>
              <a:ext cx="272880" cy="70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7640" y="491148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3240" y="49147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4640" y="51530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4640" y="53719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7640" y="515304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894200" y="4940280"/>
            <a:ext cx="765000" cy="717480"/>
            <a:chOff x="4894200" y="4940280"/>
            <a:chExt cx="765000" cy="717480"/>
          </a:xfrm>
        </p:grpSpPr>
        <p:sp>
          <p:nvSpPr>
            <p:cNvPr id="354" name=""/>
            <p:cNvSpPr/>
            <p:nvPr/>
          </p:nvSpPr>
          <p:spPr>
            <a:xfrm>
              <a:off x="4894200" y="4940280"/>
              <a:ext cx="765000" cy="717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897440" y="4943520"/>
              <a:ext cx="488880" cy="476280"/>
              <a:chOff x="4897440" y="4943520"/>
              <a:chExt cx="488880" cy="476280"/>
            </a:xfrm>
          </p:grpSpPr>
          <p:sp>
            <p:nvSpPr>
              <p:cNvPr id="356" name=""/>
              <p:cNvSpPr/>
              <p:nvPr/>
            </p:nvSpPr>
            <p:spPr>
              <a:xfrm>
                <a:off x="4897440" y="4943520"/>
                <a:ext cx="488880" cy="24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97440" y="5183280"/>
                <a:ext cx="247680" cy="23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136840" y="49500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92440" y="495288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94200" y="51912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94200" y="54100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36840" y="5191200"/>
              <a:ext cx="25272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473120" y="1284120"/>
            <a:ext cx="25236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79760" y="1273320"/>
            <a:ext cx="252360" cy="23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05640" y="1260360"/>
            <a:ext cx="2523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81560" y="1606680"/>
            <a:ext cx="252360" cy="249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47440" y="1239840"/>
            <a:ext cx="16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ng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38240" y="121932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ghbor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960160" y="119844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48680" y="1563840"/>
            <a:ext cx="12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’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238-FA1A-4297-8B7B-A66B3EBD9EA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2746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pproximation by feature sp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58720" y="1600200"/>
            <a:ext cx="52768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efine a number of featur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over the observation-ac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9440" y="3124080"/>
            <a:ext cx="55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olicy computed from the dot produc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e feature vector and parameters </a:t>
            </a:r>
            <a:r>
              <a:rPr b="0" i="1" lang="el-GR" sz="2400" spc="-1" strike="noStrike">
                <a:solidFill>
                  <a:srgbClr val="5f5f5f"/>
                </a:solidFill>
                <a:latin typeface="Arial"/>
                <a:ea typeface="Arial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44560" y="5156280"/>
            <a:ext cx="56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 few features approximate the desir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earning with a modified log-linear GAPS (LLGA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019400" y="3746520"/>
                <a:ext cx="40608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θ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Φ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',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581800" y="1562040"/>
                <a:ext cx="222696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o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o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ϕ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,</m:t>
                              </m:r>
                              <m:r>
                                <m:t xml:space="preserve">o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F0F-DF18-4975-9314-92AE3F0EAC7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457200" y="17316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Full feature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801720" y="2673360"/>
            <a:ext cx="771480" cy="717480"/>
            <a:chOff x="801720" y="2673360"/>
            <a:chExt cx="771480" cy="717480"/>
          </a:xfrm>
        </p:grpSpPr>
        <p:sp>
          <p:nvSpPr>
            <p:cNvPr id="379" name=""/>
            <p:cNvSpPr/>
            <p:nvPr/>
          </p:nvSpPr>
          <p:spPr>
            <a:xfrm>
              <a:off x="801720" y="2673360"/>
              <a:ext cx="765000" cy="717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00320" y="2676600"/>
              <a:ext cx="27288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44720" y="26827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00320" y="26859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1720" y="29242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720" y="31431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4720" y="292428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90560" y="1830240"/>
            <a:ext cx="777960" cy="725760"/>
            <a:chOff x="790560" y="1830240"/>
            <a:chExt cx="777960" cy="725760"/>
          </a:xfrm>
        </p:grpSpPr>
        <p:sp>
          <p:nvSpPr>
            <p:cNvPr id="387" name=""/>
            <p:cNvSpPr/>
            <p:nvPr/>
          </p:nvSpPr>
          <p:spPr>
            <a:xfrm>
              <a:off x="803160" y="1836720"/>
              <a:ext cx="765360" cy="717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0560" y="1830240"/>
              <a:ext cx="252360" cy="725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46160" y="18464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01760" y="18493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3160" y="20876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3160" y="23065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46160" y="20876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4000" y="1824120"/>
            <a:ext cx="765000" cy="717480"/>
            <a:chOff x="2664000" y="1824120"/>
            <a:chExt cx="765000" cy="717480"/>
          </a:xfrm>
        </p:grpSpPr>
        <p:sp>
          <p:nvSpPr>
            <p:cNvPr id="395" name=""/>
            <p:cNvSpPr/>
            <p:nvPr/>
          </p:nvSpPr>
          <p:spPr>
            <a:xfrm>
              <a:off x="2664000" y="1824120"/>
              <a:ext cx="765000" cy="71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4000" y="1827360"/>
              <a:ext cx="501480" cy="242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4000" y="2073240"/>
              <a:ext cx="250560" cy="21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06640" y="183348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62240" y="183672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64000" y="20750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64000" y="22939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06640" y="207504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817560" y="3497400"/>
            <a:ext cx="770040" cy="723600"/>
            <a:chOff x="817560" y="3497400"/>
            <a:chExt cx="770040" cy="723600"/>
          </a:xfrm>
        </p:grpSpPr>
        <p:sp>
          <p:nvSpPr>
            <p:cNvPr id="404" name=""/>
            <p:cNvSpPr/>
            <p:nvPr/>
          </p:nvSpPr>
          <p:spPr>
            <a:xfrm>
              <a:off x="822240" y="3503520"/>
              <a:ext cx="765360" cy="717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560" y="3497400"/>
              <a:ext cx="768240" cy="26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5240" y="35132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20840" y="3516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2240" y="37544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2240" y="3973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65240" y="37544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838080" y="4322880"/>
            <a:ext cx="770040" cy="717480"/>
            <a:chOff x="838080" y="4322880"/>
            <a:chExt cx="770040" cy="717480"/>
          </a:xfrm>
        </p:grpSpPr>
        <p:sp>
          <p:nvSpPr>
            <p:cNvPr id="412" name=""/>
            <p:cNvSpPr/>
            <p:nvPr/>
          </p:nvSpPr>
          <p:spPr>
            <a:xfrm>
              <a:off x="838080" y="4322880"/>
              <a:ext cx="765360" cy="717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1320" y="4797360"/>
              <a:ext cx="766800" cy="2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1080" y="43322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36680" y="4335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8080" y="45734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8080" y="4792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81080" y="45734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665440" y="2666880"/>
            <a:ext cx="766800" cy="722520"/>
            <a:chOff x="2665440" y="2666880"/>
            <a:chExt cx="766800" cy="722520"/>
          </a:xfrm>
        </p:grpSpPr>
        <p:sp>
          <p:nvSpPr>
            <p:cNvPr id="420" name=""/>
            <p:cNvSpPr/>
            <p:nvPr/>
          </p:nvSpPr>
          <p:spPr>
            <a:xfrm>
              <a:off x="2666880" y="2666880"/>
              <a:ext cx="765360" cy="71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6200000">
              <a:off x="2555640" y="3025800"/>
              <a:ext cx="473040" cy="25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6200000">
              <a:off x="2910600" y="3133800"/>
              <a:ext cx="252360" cy="254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09880" y="26766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65480" y="26798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66880" y="29178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66880" y="31431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9880" y="2917800"/>
              <a:ext cx="252360" cy="225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670120" y="3506760"/>
            <a:ext cx="765360" cy="717480"/>
            <a:chOff x="2670120" y="3506760"/>
            <a:chExt cx="765360" cy="717480"/>
          </a:xfrm>
        </p:grpSpPr>
        <p:sp>
          <p:nvSpPr>
            <p:cNvPr id="429" name=""/>
            <p:cNvSpPr/>
            <p:nvPr/>
          </p:nvSpPr>
          <p:spPr>
            <a:xfrm>
              <a:off x="2670120" y="3506760"/>
              <a:ext cx="765360" cy="717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3065760" y="3604320"/>
              <a:ext cx="465120" cy="26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2917800" y="3502080"/>
              <a:ext cx="247680" cy="257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3120" y="3516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8720" y="35193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70120" y="3757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70120" y="39765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13120" y="375768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681280" y="4316400"/>
            <a:ext cx="770040" cy="717480"/>
            <a:chOff x="2681280" y="4316400"/>
            <a:chExt cx="770040" cy="717480"/>
          </a:xfrm>
        </p:grpSpPr>
        <p:sp>
          <p:nvSpPr>
            <p:cNvPr id="438" name=""/>
            <p:cNvSpPr/>
            <p:nvPr/>
          </p:nvSpPr>
          <p:spPr>
            <a:xfrm>
              <a:off x="2681280" y="4316400"/>
              <a:ext cx="765360" cy="717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0800000">
              <a:off x="2917800" y="4787640"/>
              <a:ext cx="533520" cy="245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3181320" y="4570200"/>
              <a:ext cx="270000" cy="214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24280" y="43257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79880" y="432900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81280" y="45673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81280" y="47862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24280" y="456732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57600" y="2673360"/>
            <a:ext cx="768600" cy="717480"/>
            <a:chOff x="4557600" y="2673360"/>
            <a:chExt cx="768600" cy="717480"/>
          </a:xfrm>
        </p:grpSpPr>
        <p:sp>
          <p:nvSpPr>
            <p:cNvPr id="447" name=""/>
            <p:cNvSpPr/>
            <p:nvPr/>
          </p:nvSpPr>
          <p:spPr>
            <a:xfrm>
              <a:off x="4557600" y="2673360"/>
              <a:ext cx="765360" cy="7174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52960" y="2673360"/>
              <a:ext cx="273240" cy="71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00600" y="26827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56200" y="26859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57600" y="29242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57600" y="31431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00600" y="292428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556160" y="1830240"/>
            <a:ext cx="768240" cy="725760"/>
            <a:chOff x="4556160" y="1830240"/>
            <a:chExt cx="768240" cy="725760"/>
          </a:xfrm>
        </p:grpSpPr>
        <p:sp>
          <p:nvSpPr>
            <p:cNvPr id="455" name=""/>
            <p:cNvSpPr/>
            <p:nvPr/>
          </p:nvSpPr>
          <p:spPr>
            <a:xfrm>
              <a:off x="4559400" y="1836720"/>
              <a:ext cx="765000" cy="717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56160" y="1830240"/>
              <a:ext cx="252360" cy="72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02040" y="18464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57640" y="184932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59400" y="20876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59400" y="23065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2040" y="2087640"/>
              <a:ext cx="25272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485040" y="1825560"/>
            <a:ext cx="765000" cy="717480"/>
            <a:chOff x="6485040" y="1825560"/>
            <a:chExt cx="765000" cy="717480"/>
          </a:xfrm>
        </p:grpSpPr>
        <p:sp>
          <p:nvSpPr>
            <p:cNvPr id="463" name=""/>
            <p:cNvSpPr/>
            <p:nvPr/>
          </p:nvSpPr>
          <p:spPr>
            <a:xfrm>
              <a:off x="6485040" y="1825560"/>
              <a:ext cx="765000" cy="717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88280" y="1828800"/>
              <a:ext cx="48888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85040" y="2071800"/>
              <a:ext cx="247680" cy="22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27680" y="18352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83280" y="183816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85040" y="20764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85040" y="2295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27680" y="2076480"/>
              <a:ext cx="25272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573440" y="3503520"/>
            <a:ext cx="770040" cy="717480"/>
            <a:chOff x="4573440" y="3503520"/>
            <a:chExt cx="770040" cy="717480"/>
          </a:xfrm>
        </p:grpSpPr>
        <p:sp>
          <p:nvSpPr>
            <p:cNvPr id="472" name=""/>
            <p:cNvSpPr/>
            <p:nvPr/>
          </p:nvSpPr>
          <p:spPr>
            <a:xfrm>
              <a:off x="4578480" y="3503520"/>
              <a:ext cx="765000" cy="7174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73440" y="3506760"/>
              <a:ext cx="768600" cy="24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21120" y="35132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76720" y="3516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8480" y="37544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8480" y="3973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21120" y="37544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94320" y="4322880"/>
            <a:ext cx="765000" cy="720720"/>
            <a:chOff x="4594320" y="4322880"/>
            <a:chExt cx="765000" cy="720720"/>
          </a:xfrm>
        </p:grpSpPr>
        <p:sp>
          <p:nvSpPr>
            <p:cNvPr id="480" name=""/>
            <p:cNvSpPr/>
            <p:nvPr/>
          </p:nvSpPr>
          <p:spPr>
            <a:xfrm>
              <a:off x="4594320" y="4322880"/>
              <a:ext cx="765000" cy="7174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95760" y="4794120"/>
              <a:ext cx="7574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36960" y="43322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92560" y="43354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94320" y="45734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94320" y="47926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36960" y="4573440"/>
              <a:ext cx="25272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486480" y="2668680"/>
            <a:ext cx="766800" cy="720360"/>
            <a:chOff x="6486480" y="2668680"/>
            <a:chExt cx="766800" cy="720360"/>
          </a:xfrm>
        </p:grpSpPr>
        <p:sp>
          <p:nvSpPr>
            <p:cNvPr id="488" name=""/>
            <p:cNvSpPr/>
            <p:nvPr/>
          </p:nvSpPr>
          <p:spPr>
            <a:xfrm>
              <a:off x="6488280" y="2668680"/>
              <a:ext cx="765000" cy="717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6200000">
              <a:off x="6379920" y="3028320"/>
              <a:ext cx="466920" cy="25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6733440" y="3135960"/>
              <a:ext cx="249120" cy="25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30920" y="267804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86520" y="26812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88280" y="291924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88280" y="31384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30920" y="29192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491160" y="3508200"/>
            <a:ext cx="765360" cy="717840"/>
            <a:chOff x="6491160" y="3508200"/>
            <a:chExt cx="765360" cy="717840"/>
          </a:xfrm>
        </p:grpSpPr>
        <p:sp>
          <p:nvSpPr>
            <p:cNvPr id="497" name=""/>
            <p:cNvSpPr/>
            <p:nvPr/>
          </p:nvSpPr>
          <p:spPr>
            <a:xfrm>
              <a:off x="6491160" y="3508200"/>
              <a:ext cx="765360" cy="7178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6886800" y="3606120"/>
              <a:ext cx="465480" cy="2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6737400" y="3504960"/>
              <a:ext cx="247680" cy="25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34160" y="351792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89760" y="352116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91160" y="375912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91160" y="3978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34160" y="375912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502320" y="4317840"/>
            <a:ext cx="765360" cy="717840"/>
            <a:chOff x="6502320" y="4317840"/>
            <a:chExt cx="765360" cy="717840"/>
          </a:xfrm>
        </p:grpSpPr>
        <p:sp>
          <p:nvSpPr>
            <p:cNvPr id="506" name=""/>
            <p:cNvSpPr/>
            <p:nvPr/>
          </p:nvSpPr>
          <p:spPr>
            <a:xfrm>
              <a:off x="6502320" y="4317840"/>
              <a:ext cx="765360" cy="717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739200" y="4567320"/>
              <a:ext cx="526680" cy="462960"/>
              <a:chOff x="6739200" y="4567320"/>
              <a:chExt cx="526680" cy="462960"/>
            </a:xfrm>
          </p:grpSpPr>
          <p:sp>
            <p:nvSpPr>
              <p:cNvPr id="508" name=""/>
              <p:cNvSpPr/>
              <p:nvPr/>
            </p:nvSpPr>
            <p:spPr>
              <a:xfrm rot="10800000">
                <a:off x="6739200" y="4794120"/>
                <a:ext cx="526680" cy="23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0800000">
                <a:off x="6999120" y="4567320"/>
                <a:ext cx="2667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6745320" y="432756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00920" y="433080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02320" y="4568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2320" y="47880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45320" y="456876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806480" y="2689200"/>
            <a:ext cx="45108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92160" y="2701800"/>
            <a:ext cx="35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19440" y="187488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93960" y="18874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19440" y="355140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35640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1400" y="4348080"/>
            <a:ext cx="45108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43704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70200" y="2647800"/>
            <a:ext cx="45108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83160" y="183348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83160" y="351000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05120" y="4307040"/>
            <a:ext cx="45108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5896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64160" y="184464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64160" y="352116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86480" y="431784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0440" y="264960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93040" y="183528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93040" y="3511440"/>
            <a:ext cx="450720" cy="668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15360" y="4308480"/>
            <a:ext cx="450720" cy="668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58040" y="50292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4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5480" y="5619600"/>
            <a:ext cx="25236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5608800"/>
            <a:ext cx="252360" cy="23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30840" y="5595840"/>
            <a:ext cx="2523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01840" y="5942160"/>
            <a:ext cx="252720" cy="2491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01960" y="55515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ng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60680" y="55306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ghbor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985720" y="55101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469680" y="5875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9040" y="1519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56000" y="1519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51400" y="1519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04040" y="1519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756440" y="15192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613680" y="15192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490000" y="15192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433280" y="15192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60920" y="1874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60920" y="2666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60920" y="35514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60920" y="43894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38680" y="1874880"/>
            <a:ext cx="35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89720" y="2666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51400"/>
            <a:ext cx="35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65680" y="4343400"/>
            <a:ext cx="35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43800" y="2666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70800" y="187488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70800" y="35514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70800" y="4343400"/>
            <a:ext cx="35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7E2-0087-4268-A12C-CF604B672D8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Performance comparis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28600" y="1957320"/>
            <a:ext cx="4343400" cy="35164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545000" y="3432240"/>
            <a:ext cx="4299120" cy="29019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88920" y="2387520"/>
            <a:ext cx="5968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186480" y="3495240"/>
            <a:ext cx="64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440" y="1382760"/>
            <a:ext cx="41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Performance as learning progr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moothed average reward over 10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15360" y="30970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Mean convergence times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3BA-1AC0-4FF9-8034-D437587BF7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343400" y="25448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Learned locomo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5040" y="2932200"/>
            <a:ext cx="3558960" cy="0"/>
          </a:xfrm>
          <a:prstGeom prst="line">
            <a:avLst/>
          </a:prstGeom>
          <a:ln w="19080">
            <a:solidFill>
              <a:srgbClr val="ca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38280" y="1697040"/>
            <a:ext cx="4186080" cy="122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F41-42C5-4609-B878-B82CE39235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54974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4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38200" y="1294920"/>
            <a:ext cx="6997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tivate reinforcement learning (RL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38200" y="21193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arger modular system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38200" y="2941560"/>
            <a:ext cx="7061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specif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38200" y="37656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gener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38200" y="458784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periments i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38200" y="5410080"/>
            <a:ext cx="6172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lated curr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097-1443-434F-87E5-0FDB148D9B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Summary so far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76400" y="1504440"/>
            <a:ext cx="7610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inforcement learning for modular robots with more realistic observability assumpt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earning algorithm with feature represent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sults in locomotion by self-reconfigur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9A7-4057-4A2B-BFF5-92039C0935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Advantages of a feature representa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30400" y="1358640"/>
            <a:ext cx="7556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ster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umber of parameters independent of robot size or observation space siz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omain knowledg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n’t try to move into an occupied cell”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eatures can be designed for many tasks and robo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5DE-19A7-4DB9-9136-C69591DFC3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urrent work: asynchronous execu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4714920" y="1671480"/>
            <a:ext cx="4032360" cy="31719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695880" y="4799160"/>
            <a:ext cx="322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observations, 11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nly 220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4593240" y="3075840"/>
            <a:ext cx="64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83080" y="1828800"/>
            <a:ext cx="647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B7D-C866-4527-9EDD-F546596764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urrent work: large system locomotion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12960" y="2554200"/>
            <a:ext cx="4440240" cy="0"/>
          </a:xfrm>
          <a:prstGeom prst="line">
            <a:avLst/>
          </a:prstGeom>
          <a:ln w="19080">
            <a:solidFill>
              <a:srgbClr val="ca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12960" y="4392720"/>
            <a:ext cx="4440240" cy="0"/>
          </a:xfrm>
          <a:prstGeom prst="line">
            <a:avLst/>
          </a:prstGeom>
          <a:ln w="19080">
            <a:solidFill>
              <a:srgbClr val="ca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07320" y="21700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0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007320" y="40370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70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923760" y="1711440"/>
            <a:ext cx="4248360" cy="8190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885960" y="3540240"/>
            <a:ext cx="4248000" cy="81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A49-B897-4C53-A6CC-41AB29B479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45869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61018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urrent work: complex reward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114560" y="1716120"/>
            <a:ext cx="6593040" cy="3306600"/>
            <a:chOff x="1114560" y="1716120"/>
            <a:chExt cx="6593040" cy="3306600"/>
          </a:xfrm>
        </p:grpSpPr>
        <p:grpSp>
          <p:nvGrpSpPr>
            <p:cNvPr id="593" name=""/>
            <p:cNvGrpSpPr/>
            <p:nvPr/>
          </p:nvGrpSpPr>
          <p:grpSpPr>
            <a:xfrm>
              <a:off x="2846520" y="2365200"/>
              <a:ext cx="1185840" cy="595080"/>
              <a:chOff x="2846520" y="2365200"/>
              <a:chExt cx="1185840" cy="595080"/>
            </a:xfrm>
          </p:grpSpPr>
          <p:sp>
            <p:nvSpPr>
              <p:cNvPr id="594" name=""/>
              <p:cNvSpPr/>
              <p:nvPr/>
            </p:nvSpPr>
            <p:spPr>
              <a:xfrm>
                <a:off x="2846520" y="2365200"/>
                <a:ext cx="1185840" cy="595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224520" y="245016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θ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46520" y="3046320"/>
              <a:ext cx="1185840" cy="595080"/>
              <a:chOff x="2846520" y="3046320"/>
              <a:chExt cx="1185840" cy="595080"/>
            </a:xfrm>
          </p:grpSpPr>
          <p:sp>
            <p:nvSpPr>
              <p:cNvPr id="597" name=""/>
              <p:cNvSpPr/>
              <p:nvPr/>
            </p:nvSpPr>
            <p:spPr>
              <a:xfrm>
                <a:off x="2846520" y="3046320"/>
                <a:ext cx="1185840" cy="595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24520" y="313128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θ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846520" y="4067280"/>
              <a:ext cx="1185840" cy="593280"/>
              <a:chOff x="2846520" y="4067280"/>
              <a:chExt cx="1185840" cy="593280"/>
            </a:xfrm>
          </p:grpSpPr>
          <p:sp>
            <p:nvSpPr>
              <p:cNvPr id="600" name=""/>
              <p:cNvSpPr/>
              <p:nvPr/>
            </p:nvSpPr>
            <p:spPr>
              <a:xfrm>
                <a:off x="2846520" y="4067280"/>
                <a:ext cx="1185840" cy="59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224520" y="4151880"/>
                <a:ext cx="38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θ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1957320" y="3386160"/>
              <a:ext cx="88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2401920" y="2706480"/>
              <a:ext cx="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1920" y="3386160"/>
              <a:ext cx="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01920" y="270684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01920" y="44067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65720" y="3130560"/>
              <a:ext cx="34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4760640" y="2722680"/>
              <a:ext cx="2604960" cy="1258560"/>
              <a:chOff x="4760640" y="2722680"/>
              <a:chExt cx="2604960" cy="1258560"/>
            </a:xfrm>
          </p:grpSpPr>
          <p:sp>
            <p:nvSpPr>
              <p:cNvPr id="609" name=""/>
              <p:cNvSpPr/>
              <p:nvPr/>
            </p:nvSpPr>
            <p:spPr>
              <a:xfrm>
                <a:off x="4772880" y="2791440"/>
                <a:ext cx="1110960" cy="118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760640" y="2722680"/>
                <a:ext cx="119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bit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84200" y="3386160"/>
                <a:ext cx="148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85160" y="2961360"/>
                <a:ext cx="343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6686640" y="1994040"/>
              <a:ext cx="247680" cy="3028680"/>
            </a:xfrm>
            <a:custGeom>
              <a:avLst/>
              <a:gdLst/>
              <a:ahLst/>
              <a:rect l="l" t="t" r="r" b="b"/>
              <a:pathLst>
                <a:path w="160" h="1536">
                  <a:moveTo>
                    <a:pt x="104" y="0"/>
                  </a:moveTo>
                  <a:cubicBezTo>
                    <a:pt x="56" y="48"/>
                    <a:pt x="8" y="96"/>
                    <a:pt x="8" y="144"/>
                  </a:cubicBezTo>
                  <a:cubicBezTo>
                    <a:pt x="8" y="192"/>
                    <a:pt x="104" y="224"/>
                    <a:pt x="104" y="288"/>
                  </a:cubicBezTo>
                  <a:cubicBezTo>
                    <a:pt x="104" y="352"/>
                    <a:pt x="0" y="464"/>
                    <a:pt x="8" y="528"/>
                  </a:cubicBezTo>
                  <a:cubicBezTo>
                    <a:pt x="16" y="592"/>
                    <a:pt x="144" y="616"/>
                    <a:pt x="152" y="672"/>
                  </a:cubicBezTo>
                  <a:cubicBezTo>
                    <a:pt x="160" y="728"/>
                    <a:pt x="56" y="792"/>
                    <a:pt x="56" y="864"/>
                  </a:cubicBezTo>
                  <a:cubicBezTo>
                    <a:pt x="56" y="936"/>
                    <a:pt x="160" y="1032"/>
                    <a:pt x="152" y="1104"/>
                  </a:cubicBezTo>
                  <a:cubicBezTo>
                    <a:pt x="144" y="1176"/>
                    <a:pt x="16" y="1224"/>
                    <a:pt x="8" y="1296"/>
                  </a:cubicBezTo>
                  <a:cubicBezTo>
                    <a:pt x="0" y="1368"/>
                    <a:pt x="88" y="1496"/>
                    <a:pt x="104" y="1536"/>
                  </a:cubicBezTo>
                </a:path>
              </a:pathLst>
            </a:custGeom>
            <a:noFill/>
            <a:ln w="9360">
              <a:solidFill>
                <a:srgbClr val="ca5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82920" y="189720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a5200"/>
                  </a:solidFill>
                  <a:latin typeface="Arial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16080" y="2016000"/>
              <a:ext cx="247680" cy="2719440"/>
            </a:xfrm>
            <a:custGeom>
              <a:avLst/>
              <a:gdLst/>
              <a:ahLst/>
              <a:rect l="l" t="t" r="r" b="b"/>
              <a:pathLst>
                <a:path w="160" h="1536">
                  <a:moveTo>
                    <a:pt x="104" y="0"/>
                  </a:moveTo>
                  <a:cubicBezTo>
                    <a:pt x="56" y="48"/>
                    <a:pt x="8" y="96"/>
                    <a:pt x="8" y="144"/>
                  </a:cubicBezTo>
                  <a:cubicBezTo>
                    <a:pt x="8" y="192"/>
                    <a:pt x="104" y="224"/>
                    <a:pt x="104" y="288"/>
                  </a:cubicBezTo>
                  <a:cubicBezTo>
                    <a:pt x="104" y="352"/>
                    <a:pt x="0" y="464"/>
                    <a:pt x="8" y="528"/>
                  </a:cubicBezTo>
                  <a:cubicBezTo>
                    <a:pt x="16" y="592"/>
                    <a:pt x="144" y="616"/>
                    <a:pt x="152" y="672"/>
                  </a:cubicBezTo>
                  <a:cubicBezTo>
                    <a:pt x="160" y="728"/>
                    <a:pt x="56" y="792"/>
                    <a:pt x="56" y="864"/>
                  </a:cubicBezTo>
                  <a:cubicBezTo>
                    <a:pt x="56" y="936"/>
                    <a:pt x="160" y="1032"/>
                    <a:pt x="152" y="1104"/>
                  </a:cubicBezTo>
                  <a:cubicBezTo>
                    <a:pt x="144" y="1176"/>
                    <a:pt x="16" y="1224"/>
                    <a:pt x="8" y="1296"/>
                  </a:cubicBezTo>
                  <a:cubicBezTo>
                    <a:pt x="0" y="1368"/>
                    <a:pt x="88" y="1496"/>
                    <a:pt x="104" y="1536"/>
                  </a:cubicBezTo>
                </a:path>
              </a:pathLst>
            </a:custGeom>
            <a:noFill/>
            <a:ln w="9360">
              <a:solidFill>
                <a:srgbClr val="ca5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4560" y="3375000"/>
              <a:ext cx="5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420720" y="2100240"/>
              <a:ext cx="35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21080" y="21002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88480" y="1716120"/>
              <a:ext cx="330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457440" y="4873680"/>
              <a:ext cx="350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448080" y="4672080"/>
              <a:ext cx="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09120" y="4478400"/>
              <a:ext cx="330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32360" y="3314880"/>
              <a:ext cx="74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44960" y="4363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440240" y="3656160"/>
              <a:ext cx="0" cy="70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40240" y="365616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44960" y="2664000"/>
              <a:ext cx="3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27640" y="266400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27640" y="3003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1627920" y="538632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istribute subtasks within eac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D33-979A-482C-B2BA-7BBE548BD2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1640" y="274320"/>
            <a:ext cx="852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Current work: locomotion in truss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38280" y="4675320"/>
            <a:ext cx="283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hady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Vona et a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47800" y="4691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951440" y="1341360"/>
            <a:ext cx="4030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ultiShadySim </a:t>
            </a:r>
            <a:r>
              <a:rPr b="0" i="1" lang="en-US" sz="1600" spc="-1" strike="noStrike">
                <a:solidFill>
                  <a:srgbClr val="5f5f5f"/>
                </a:solidFill>
                <a:latin typeface="Arial"/>
              </a:rPr>
              <a:t>Detweiler et a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31640" y="1658880"/>
            <a:ext cx="4673880" cy="311616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4108320" y="1658880"/>
            <a:ext cx="4515120" cy="44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9BD-B11A-4E22-B99E-303D7A1A10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45109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5667" fill="hold"/>
                                        <p:tgtEl>
                                          <p:spTgt spid="6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222720" y="300024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162160" y="551016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project sponsored by Boeing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406-265E-4585-9DA3-02B2D6F1591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12960" y="2013120"/>
            <a:ext cx="3754440" cy="281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RL for self-reconfigurable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65080" y="1371600"/>
            <a:ext cx="55242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. automated controller desig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52600" y="2133720"/>
            <a:ext cx="4496040" cy="178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33520" y="396252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Butler et al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927680"/>
            <a:ext cx="81406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RAN-II controller: genetic algorithm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mimura et al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be controller: genetic algorithms (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tilinaios et al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ube primitives and controller: genetic programming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ubica and Rieffel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2BE-D348-49A0-A70A-BD20E7B7D5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RL for self-reconfigurable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03320" y="2502000"/>
            <a:ext cx="4419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2. online adaptation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03320" y="486396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ving from 1. to 2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1480" y="3151080"/>
            <a:ext cx="67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rom the point of view of each robot or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7240" y="3760920"/>
            <a:ext cx="49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limited knowledge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3320" y="1409400"/>
            <a:ext cx="55245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. automated controller desig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8AD-23B7-45BA-99AE-9308C969AF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Task: locomotion in modular robot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240" y="48985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Kotay &amp; Rus 2005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8840" y="21128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77920" y="1500120"/>
            <a:ext cx="37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attice-based rob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1360" y="4400640"/>
            <a:ext cx="40384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mulated generalized lattice-based robo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92680" y="4164120"/>
            <a:ext cx="3646440" cy="0"/>
          </a:xfrm>
          <a:prstGeom prst="line">
            <a:avLst/>
          </a:prstGeom>
          <a:ln w="19080">
            <a:solidFill>
              <a:srgbClr val="ca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3873600" cy="2581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51200" y="3319560"/>
            <a:ext cx="428652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19E-8435-4FBA-AEC0-7387EC34D9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916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550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6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From each agent’s point of view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32200" y="201600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local observation: Moore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43200" y="3200400"/>
            <a:ext cx="3581280" cy="946800"/>
            <a:chOff x="1843200" y="3200400"/>
            <a:chExt cx="3581280" cy="946800"/>
          </a:xfrm>
        </p:grpSpPr>
        <p:sp>
          <p:nvSpPr>
            <p:cNvPr id="81" name=""/>
            <p:cNvSpPr/>
            <p:nvPr/>
          </p:nvSpPr>
          <p:spPr>
            <a:xfrm>
              <a:off x="329220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205000" y="3200400"/>
              <a:ext cx="17715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843200" y="38862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030400" y="4389480"/>
            <a:ext cx="771480" cy="717480"/>
            <a:chOff x="2030400" y="4389480"/>
            <a:chExt cx="771480" cy="717480"/>
          </a:xfrm>
        </p:grpSpPr>
        <p:sp>
          <p:nvSpPr>
            <p:cNvPr id="85" name=""/>
            <p:cNvSpPr/>
            <p:nvPr/>
          </p:nvSpPr>
          <p:spPr>
            <a:xfrm>
              <a:off x="2529000" y="4392720"/>
              <a:ext cx="272880" cy="704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30400" y="4389480"/>
              <a:ext cx="765360" cy="71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73400" y="4398840"/>
              <a:ext cx="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9000" y="4402080"/>
              <a:ext cx="0" cy="69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0400" y="464040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30400" y="48592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73400" y="4640400"/>
              <a:ext cx="252360" cy="215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2028960" y="3614760"/>
            <a:ext cx="528480" cy="7714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5840" y="3699000"/>
            <a:ext cx="164880" cy="6825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7520" y="239400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actions: 8 directions + 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1120" y="282096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reward: Eastward displacement along x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094360" y="4289400"/>
            <a:ext cx="2306160" cy="1010520"/>
            <a:chOff x="5094360" y="4289400"/>
            <a:chExt cx="2306160" cy="1010520"/>
          </a:xfrm>
        </p:grpSpPr>
        <p:sp>
          <p:nvSpPr>
            <p:cNvPr id="97" name=""/>
            <p:cNvSpPr/>
            <p:nvPr/>
          </p:nvSpPr>
          <p:spPr>
            <a:xfrm>
              <a:off x="5094360" y="4373640"/>
              <a:ext cx="252360" cy="216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94360" y="4684680"/>
              <a:ext cx="260280" cy="222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94360" y="5002200"/>
              <a:ext cx="26028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35720" y="428940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acting 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520" y="4626000"/>
              <a:ext cx="182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neighbor pres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5720" y="4962600"/>
              <a:ext cx="186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Arial"/>
                </a:rPr>
                <a:t>- empty lattice cel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66600" y="545004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ssumptions: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primitive “physics”, no disconnec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ailed actions don’t execute, synchronou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9680" y="140652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tate: global configuration of ro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41720" y="14209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939920" y="1625760"/>
            <a:ext cx="90180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F03-895D-4B88-80AB-5D99E9BAE7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Large modular sytem challenges 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2240" y="1849320"/>
            <a:ext cx="70102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tial observ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92240" y="3670200"/>
            <a:ext cx="707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rge observation-action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95440" y="4284720"/>
            <a:ext cx="57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5f5f5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observations without obstacles x 9 actions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5f5f5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observations with obstacles x 9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21000" y="2392200"/>
            <a:ext cx="57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cannot use Markov-assuming “nice” algorith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4D3-9004-406A-82D6-0B56BB5769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Partial observability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360" y="2179800"/>
            <a:ext cx="723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irect policy search using gradient ascent in policy space (G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0520" y="29592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Peshkin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1080" y="3772080"/>
            <a:ext cx="34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Value V(</a:t>
            </a:r>
            <a:r>
              <a:rPr b="0" lang="el-GR" sz="2400" spc="-1" strike="noStrike">
                <a:solidFill>
                  <a:srgbClr val="5f5f5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) of policy </a:t>
            </a:r>
            <a:r>
              <a:rPr b="0" lang="el-GR" sz="2400" spc="-1" strike="noStrike">
                <a:solidFill>
                  <a:srgbClr val="5f5f5f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(</a:t>
            </a:r>
            <a:r>
              <a:rPr b="0" lang="el-GR" sz="2400" spc="-1" strike="noStrike">
                <a:solidFill>
                  <a:srgbClr val="5f5f5f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82000" y="3698640"/>
            <a:ext cx="3059640" cy="1947600"/>
            <a:chOff x="882000" y="3698640"/>
            <a:chExt cx="3059640" cy="194760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536920" y="5391000"/>
                  <a:ext cx="576000" cy="25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"/>
            <p:cNvSpPr/>
            <p:nvPr/>
          </p:nvSpPr>
          <p:spPr>
            <a:xfrm>
              <a:off x="1601640" y="528300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744560" y="369864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52560" y="4087800"/>
              <a:ext cx="1981080" cy="916920"/>
            </a:xfrm>
            <a:custGeom>
              <a:avLst/>
              <a:gdLst/>
              <a:ahLst/>
              <a:rect l="l" t="t" r="r" b="b"/>
              <a:pathLst>
                <a:path w="1248" h="578">
                  <a:moveTo>
                    <a:pt x="0" y="412"/>
                  </a:moveTo>
                  <a:cubicBezTo>
                    <a:pt x="26" y="363"/>
                    <a:pt x="53" y="314"/>
                    <a:pt x="91" y="299"/>
                  </a:cubicBezTo>
                  <a:cubicBezTo>
                    <a:pt x="129" y="284"/>
                    <a:pt x="182" y="284"/>
                    <a:pt x="227" y="322"/>
                  </a:cubicBezTo>
                  <a:cubicBezTo>
                    <a:pt x="272" y="360"/>
                    <a:pt x="325" y="485"/>
                    <a:pt x="363" y="526"/>
                  </a:cubicBezTo>
                  <a:cubicBezTo>
                    <a:pt x="401" y="567"/>
                    <a:pt x="424" y="578"/>
                    <a:pt x="454" y="571"/>
                  </a:cubicBezTo>
                  <a:cubicBezTo>
                    <a:pt x="484" y="564"/>
                    <a:pt x="500" y="564"/>
                    <a:pt x="545" y="481"/>
                  </a:cubicBezTo>
                  <a:cubicBezTo>
                    <a:pt x="590" y="398"/>
                    <a:pt x="669" y="144"/>
                    <a:pt x="726" y="72"/>
                  </a:cubicBezTo>
                  <a:cubicBezTo>
                    <a:pt x="783" y="0"/>
                    <a:pt x="843" y="12"/>
                    <a:pt x="885" y="50"/>
                  </a:cubicBezTo>
                  <a:cubicBezTo>
                    <a:pt x="927" y="88"/>
                    <a:pt x="915" y="220"/>
                    <a:pt x="976" y="299"/>
                  </a:cubicBezTo>
                  <a:cubicBezTo>
                    <a:pt x="1037" y="378"/>
                    <a:pt x="1203" y="488"/>
                    <a:pt x="1248" y="5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1280" y="4778280"/>
              <a:ext cx="92160" cy="91800"/>
            </a:xfrm>
            <a:prstGeom prst="ellipse">
              <a:avLst/>
            </a:prstGeom>
            <a:solidFill>
              <a:srgbClr val="ca5200"/>
            </a:solidFill>
            <a:ln w="9360">
              <a:solidFill>
                <a:srgbClr val="ca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2000" y="398592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 o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1073160" y="4346280"/>
                  <a:ext cx="4935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 flipV="1">
              <a:off x="2752560" y="4525560"/>
              <a:ext cx="108000" cy="286920"/>
            </a:xfrm>
            <a:prstGeom prst="line">
              <a:avLst/>
            </a:prstGeom>
            <a:ln w="25560">
              <a:solidFill>
                <a:srgbClr val="ca5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692440" y="5403960"/>
            <a:ext cx="50472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360" y="1344600"/>
            <a:ext cx="8615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n a multi-agent partially observable Markov Decision Process (POMDP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14800" y="4264200"/>
                <a:ext cx="23767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64280" y="4903920"/>
                <a:ext cx="1955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1BE-D682-4E67-AABC-16D3F4A946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Arial"/>
              </a:rPr>
              <a:t>GAP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3800" y="1573200"/>
            <a:ext cx="3703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ach agent exec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 parameterized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210200" y="1506600"/>
                <a:ext cx="38862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θ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822840" y="3294000"/>
            <a:ext cx="5292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 time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serve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ccording to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ute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ceive rewar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ep an execution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 end of epis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parameters </a:t>
            </a:r>
            <a:r>
              <a:rPr b="0" lang="el-G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81040" y="3171960"/>
            <a:ext cx="3084480" cy="2428920"/>
            <a:chOff x="581040" y="3171960"/>
            <a:chExt cx="3084480" cy="242892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2286000" y="3235320"/>
              <a:ext cx="1379520" cy="229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581040" y="3191040"/>
              <a:ext cx="844560" cy="2409840"/>
              <a:chOff x="581040" y="3191040"/>
              <a:chExt cx="844560" cy="2409840"/>
            </a:xfrm>
          </p:grpSpPr>
          <p:sp>
            <p:nvSpPr>
              <p:cNvPr id="136" name=""/>
              <p:cNvSpPr/>
              <p:nvPr/>
            </p:nvSpPr>
            <p:spPr>
              <a:xfrm>
                <a:off x="1152360" y="3191040"/>
                <a:ext cx="273240" cy="2409840"/>
              </a:xfrm>
              <a:custGeom>
                <a:avLst/>
                <a:gdLst/>
                <a:ahLst/>
                <a:rect l="l" t="t" r="r" b="b"/>
                <a:pathLst>
                  <a:path w="262" h="1572">
                    <a:moveTo>
                      <a:pt x="252" y="0"/>
                    </a:moveTo>
                    <a:cubicBezTo>
                      <a:pt x="126" y="104"/>
                      <a:pt x="0" y="209"/>
                      <a:pt x="0" y="306"/>
                    </a:cubicBezTo>
                    <a:cubicBezTo>
                      <a:pt x="0" y="403"/>
                      <a:pt x="242" y="477"/>
                      <a:pt x="252" y="582"/>
                    </a:cubicBezTo>
                    <a:cubicBezTo>
                      <a:pt x="262" y="687"/>
                      <a:pt x="61" y="819"/>
                      <a:pt x="60" y="936"/>
                    </a:cubicBezTo>
                    <a:cubicBezTo>
                      <a:pt x="59" y="1053"/>
                      <a:pt x="245" y="1178"/>
                      <a:pt x="246" y="1284"/>
                    </a:cubicBezTo>
                    <a:cubicBezTo>
                      <a:pt x="247" y="1390"/>
                      <a:pt x="156" y="1481"/>
                      <a:pt x="66" y="1572"/>
                    </a:cubicBezTo>
                  </a:path>
                </a:pathLst>
              </a:custGeom>
              <a:noFill/>
              <a:ln w="19080">
                <a:solidFill>
                  <a:srgbClr val="ca5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676440" y="3695400"/>
                <a:ext cx="475920" cy="36180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666720" y="3886200"/>
                <a:ext cx="619200" cy="45720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581040" y="4057200"/>
                <a:ext cx="828720" cy="63828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666720" y="4476960"/>
                <a:ext cx="581040" cy="42840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57360" y="4752720"/>
                <a:ext cx="581040" cy="42876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14240" y="4981320"/>
                <a:ext cx="638280" cy="47628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85800" y="3333960"/>
                <a:ext cx="619200" cy="457200"/>
              </a:xfrm>
              <a:prstGeom prst="line">
                <a:avLst/>
              </a:prstGeom>
              <a:ln w="9360">
                <a:solidFill>
                  <a:srgbClr val="ca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285920" y="3495600"/>
              <a:ext cx="13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457280" y="414360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76360" y="5124600"/>
              <a:ext cx="10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53920" y="317196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34840" y="381024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3640" y="478152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62280" y="4191120"/>
              <a:ext cx="390600" cy="352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354720" y="2765520"/>
            <a:ext cx="181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5f5f5f"/>
                </a:solidFill>
                <a:latin typeface="Arial"/>
                <a:ea typeface="Arial"/>
              </a:rPr>
              <a:t>β</a:t>
            </a:r>
            <a:r>
              <a:rPr b="0" lang="en-US" sz="1600" spc="-1" strike="noStrike" baseline="-25000">
                <a:solidFill>
                  <a:srgbClr val="5f5f5f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Arial"/>
              </a:rPr>
              <a:t> is “temperatur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ina Varshavskaya, Leslie Pack Kaelbling, Daniela Ru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1B1-A9A0-4E4B-8F1F-DAB12B0AD0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ugus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ffice 2004 Test Drive User</cp:lastModifiedBy>
  <dcterms:modified xsi:type="dcterms:W3CDTF">2006-08-21T19:20:32Z</dcterms:modified>
  <cp:revision>1</cp:revision>
  <dc:subject/>
  <dc:title>On Scalability Issues in Reinforcement Learning for Modular Robots</dc:title>
</cp:coreProperties>
</file>